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25336"/>
        <c:axId val="66769293"/>
      </c:barChart>
      <c:catAx>
        <c:axId val="12125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9293"/>
        <c:crosses val="autoZero"/>
        <c:auto val="1"/>
        <c:lblAlgn val="ctr"/>
        <c:lblOffset val="100"/>
        <c:noMultiLvlLbl val="0"/>
      </c:catAx>
      <c:valAx>
        <c:axId val="66769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25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A3F-D1A8-4E87-9609-2FF87481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EF1-F1C4-4F74-815A-C4C9B56E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C7A-45A2-4E12-80BA-B86A64D8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A5B-4B52-4701-85A5-7C9553CE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128-EFAA-4FC9-80A9-4D553B69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120-8A38-47EB-8CDF-5443F06C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5AD-41F5-4D3B-BA6B-46FB4F1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5C9-3EC8-4997-BCBA-95DF3EC9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7B7-4ECE-424F-8AA3-2885C037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A69-6C8B-4164-9941-A8659CB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482-BA81-444F-9E59-94E157D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5DC-4ADE-4079-8F5D-54EBB57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25AF7-9E1A-4377-BB54-1F8DD0C02C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