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18630"/>
        <c:axId val="52004410"/>
      </c:barChart>
      <c:catAx>
        <c:axId val="94818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4410"/>
        <c:crosses val="autoZero"/>
        <c:auto val="1"/>
        <c:lblAlgn val="ctr"/>
        <c:lblOffset val="100"/>
        <c:noMultiLvlLbl val="0"/>
      </c:catAx>
      <c:valAx>
        <c:axId val="5200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8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BAC-CFB8-49F2-AE78-1253241D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F02-8F7E-42F1-BA11-C5C86ED6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DF8-13F5-4EFD-8D42-2C4F0DB3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D88-E9FD-4AA7-B6B8-AEA4A378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D47-F6E4-458B-939F-7474A28D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74A-F6C7-40D6-B7FE-1B63323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F30-6E3B-47C8-ADBC-7FC229D3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F53-B03B-4D79-9B88-2541D23C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CA0-5FE6-4D54-B153-48002E1F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108-466B-49C3-9F13-AF28706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CB7-3D97-4545-9800-D24B496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095-0200-46B4-8FFA-B8346ACE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BEB29-24B6-4040-897E-FF8A6C10A4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