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62046"/>
        <c:axId val="46789782"/>
      </c:barChart>
      <c:catAx>
        <c:axId val="66562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9782"/>
        <c:crosses val="autoZero"/>
        <c:auto val="1"/>
        <c:lblAlgn val="ctr"/>
        <c:lblOffset val="100"/>
        <c:noMultiLvlLbl val="0"/>
      </c:catAx>
      <c:valAx>
        <c:axId val="4678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2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5A9-DE42-471A-9836-5339B715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CC4-3B06-47D0-9A56-9447978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295-D4B9-492A-85F5-174A3105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EB3-92B9-461F-9EB6-56614EBD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0E2-1D3D-43E8-B006-507F9E5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7B5-E8C6-4DB0-BA65-52DDFAD5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8D2-A3C6-4D34-A50E-99AFF91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86A-5D22-469C-A6FB-A38EDFF2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BF4-1D0E-425D-B8C4-E9E4EA5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7FC-506E-4B96-B2D3-F5072FE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634-7B68-4B92-9213-2BD71C5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5E3-5256-4508-9988-2239258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E62A3-7AAD-4DF7-917B-D2E5DDCF0A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