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06163"/>
        <c:axId val="86009121"/>
      </c:barChart>
      <c:catAx>
        <c:axId val="825061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09121"/>
        <c:crosses val="autoZero"/>
        <c:auto val="1"/>
        <c:lblAlgn val="ctr"/>
        <c:lblOffset val="100"/>
        <c:noMultiLvlLbl val="0"/>
      </c:catAx>
      <c:valAx>
        <c:axId val="86009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061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F4B1-0BA4-48C9-803B-9BDCA7C5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81A-E4C2-4F03-9F56-3900AF66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D27B-3376-45B4-8603-193E2061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001-E0AB-4561-A277-99167BF1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004-223F-4FA8-9845-F0EF4FEA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71B-F1CF-4360-8F30-24B1DB33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7AF6-8A76-4D6C-B2FF-6273CF6C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DA82-026B-4FB8-8117-2402B1D8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FD50-B959-4423-84C6-73B17821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E7A6-4336-4607-8765-70E7FF73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4BEA-4D1C-421F-8BF2-95310424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201-DA7C-461D-BBE9-EE0A224F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790E1-CFB5-4E01-ACD0-D0981821AF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