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02563"/>
        <c:axId val="8715654"/>
      </c:barChart>
      <c:catAx>
        <c:axId val="962025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5654"/>
        <c:crosses val="autoZero"/>
        <c:auto val="1"/>
        <c:lblAlgn val="ctr"/>
        <c:lblOffset val="100"/>
        <c:noMultiLvlLbl val="0"/>
      </c:catAx>
      <c:valAx>
        <c:axId val="87156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025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7FD3-A5E0-48C3-90F4-6BE12489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ED5-3763-4165-BD4B-FB665078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F7F8-2FCB-4833-A3B8-67B16D8C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D0FE-17E3-4AC3-9B7F-8C5F7D02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491C-6276-4E05-8796-83D12779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F9A-4E80-4A8D-8980-1F71B369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AAC-E56E-4089-88CC-70937C00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3C52-2217-4227-B3A6-0F70FFDA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968-F8C9-4FCD-85CC-58EDC6AB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62FD-D803-4F63-9F6B-5BA680B7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1D5-1199-4BE4-B22C-CF2914F9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76D6-2B31-4419-8423-8100319F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DF721-F63A-4BF8-86C9-0A2034D6A1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