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97946"/>
        <c:axId val="38517049"/>
      </c:barChart>
      <c:catAx>
        <c:axId val="64897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17049"/>
        <c:crosses val="autoZero"/>
        <c:auto val="1"/>
        <c:lblAlgn val="ctr"/>
        <c:lblOffset val="100"/>
        <c:noMultiLvlLbl val="0"/>
      </c:catAx>
      <c:valAx>
        <c:axId val="38517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97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896-C812-4907-86A1-9D43057E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B93-04E9-4C80-BCD5-ABD775C0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844-F69C-48EB-8B45-CF77EF28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DB8-D56F-4FEB-B179-7274F806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1F7-135D-4A8D-9C5E-9C1F40C0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B97-5AFF-4406-BF9D-65C65300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3871-51F9-4FCA-87F2-3EAC387E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B1E-4A56-4E9E-AB8A-DE39237F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E596-431E-4CD9-8D28-D71FB12B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4A6-2DCD-4FB2-94DF-7B6A18A9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CCE9-4E73-4B18-90D5-B6FECA46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E51-C5E8-41F9-82FB-BAB34178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78927-BC10-4729-9C01-E991DA6D9A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