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41944"/>
        <c:axId val="88147453"/>
      </c:barChart>
      <c:catAx>
        <c:axId val="71841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47453"/>
        <c:crosses val="autoZero"/>
        <c:auto val="1"/>
        <c:lblAlgn val="ctr"/>
        <c:lblOffset val="100"/>
        <c:noMultiLvlLbl val="0"/>
      </c:catAx>
      <c:valAx>
        <c:axId val="88147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41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60C-14C0-4840-83C3-7CF8D582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D67-D0F6-4BC1-B2BC-23AB8414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BD7-6C0B-4BE5-A4F0-E9B90FE1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3CB-0A30-4EBA-91AE-EF5EB689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CBE-7A14-4450-A128-AEFB4259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8661-F63D-4522-A2FB-3AC8F53F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9FE-4065-4339-9162-AF353ABB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AE0-1696-4C86-937C-0DAF5C57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891-F366-461F-8DFF-2A3B5187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26F-2A55-4791-A9BA-4FF718F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66A-A2A3-4338-8E27-B61718E2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CB8-419A-4420-BB53-0DC5BCEE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B2930-BA5B-4FBF-83A8-7603C4B6B1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