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26202"/>
        <c:axId val="46847439"/>
      </c:barChart>
      <c:catAx>
        <c:axId val="62526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47439"/>
        <c:crosses val="autoZero"/>
        <c:auto val="1"/>
        <c:lblAlgn val="ctr"/>
        <c:lblOffset val="100"/>
        <c:noMultiLvlLbl val="0"/>
      </c:catAx>
      <c:valAx>
        <c:axId val="46847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26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93C-DB1F-4912-92EA-D81EE18D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CCA-76A4-4282-9F68-86FC4461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02E-24AD-48BB-88FF-7E0077AA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46C-0BA0-4AA2-B7F2-4F0EA54B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E07-1667-447C-8FA4-DF150DDE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77F-BC94-4164-A860-EA7B1FA3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BD4-144A-4DD8-B7A4-B8EB85CC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ADF-7E47-4BFE-A638-0FD429DA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A31-85AE-4F44-AD5C-438E8094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DD8-075C-45B0-BFBF-58AA22C3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286-F697-4FD7-A458-18EA9007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2E0-C84C-4771-8D01-B00060CC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E0496-783C-4356-82BC-FA412D76DF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