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560738"/>
        <c:axId val="19189948"/>
      </c:barChart>
      <c:catAx>
        <c:axId val="345607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89948"/>
        <c:crosses val="autoZero"/>
        <c:auto val="1"/>
        <c:lblAlgn val="ctr"/>
        <c:lblOffset val="100"/>
        <c:noMultiLvlLbl val="0"/>
      </c:catAx>
      <c:valAx>
        <c:axId val="191899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607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A022-8C4D-4A8C-9C87-B142A2277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1658-47A8-42CC-9BE3-5F14A38F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4EAD-0B1F-4863-9694-D62390F39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ED78-C45E-4C23-BE95-169C06E93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98CA-D4DF-408C-8932-55D48762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FDA8-E9D8-4A76-AC1F-E09C38B9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88D6-E744-4846-A20D-7364EF95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27BD-F4CA-4350-9C17-D514047B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DE17-FE06-46FE-9433-E81321B9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EBB1-6EF4-4F1E-A352-2A279EB9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764F-9307-4D8F-BBE3-4C9B4BAC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EA55-B64B-497B-861D-CDB35CDE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912A1-0902-4ACD-B7AC-9D671E6AB1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