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165778"/>
        <c:axId val="21581832"/>
      </c:barChart>
      <c:catAx>
        <c:axId val="771657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81832"/>
        <c:crosses val="autoZero"/>
        <c:auto val="1"/>
        <c:lblAlgn val="ctr"/>
        <c:lblOffset val="100"/>
        <c:noMultiLvlLbl val="0"/>
      </c:catAx>
      <c:valAx>
        <c:axId val="215818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1657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C4B0-F48E-45F5-B015-7FC579414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0811-4813-432E-838C-65FDD6E9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E507-2E2D-4DC7-B3D3-30F20A54D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8FC7-8959-4B85-B01E-FD92B1443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47CC-C71A-4901-8833-092F9DD6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C345-F72A-463A-B4C3-A332DC14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4CE2-A2A4-4187-A5A9-5087E387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9606-0376-41F1-ACA0-BE00699E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4897-C8BF-436F-8901-3B4FF2C5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D91F-F36D-4307-B20A-D8616623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51E1-531B-4853-A8E6-C9983083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1964-607E-4F29-B289-1DE66135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85793-45EC-4DDC-A653-9A7B656253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