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68764"/>
        <c:axId val="17680117"/>
      </c:barChart>
      <c:catAx>
        <c:axId val="56568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80117"/>
        <c:crosses val="autoZero"/>
        <c:auto val="1"/>
        <c:lblAlgn val="ctr"/>
        <c:lblOffset val="100"/>
        <c:noMultiLvlLbl val="0"/>
      </c:catAx>
      <c:valAx>
        <c:axId val="17680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68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854-1AD1-42F4-B41E-147AB9C1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1ED-2645-4680-B220-DDAE14E8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332-F678-4491-9F01-E8BB1988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BEBD-DB50-40DD-9369-A57FD5E1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9BF-2E2D-48DC-9E56-4AF2ADDA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FD5-56D5-4399-B0B2-030913FD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D0E-CFC5-4A3B-AA21-92913114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958-6982-4A86-8C3F-A3B2AA6D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6FD-36B4-4CAA-B588-62FB20BC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546-29D7-41E5-A2A9-FF3590BA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035-E61B-4637-A2BA-44153A91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DC2-56C4-43B4-9874-7052AC92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F7924-9690-4AD2-A1E1-3D9A0B369F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