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30405"/>
        <c:axId val="27728840"/>
      </c:barChart>
      <c:catAx>
        <c:axId val="16830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28840"/>
        <c:crosses val="autoZero"/>
        <c:auto val="1"/>
        <c:lblAlgn val="ctr"/>
        <c:lblOffset val="100"/>
        <c:noMultiLvlLbl val="0"/>
      </c:catAx>
      <c:valAx>
        <c:axId val="27728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30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F45-DA67-45FF-9436-CE54AB77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D29C-19AF-43F0-8BFF-8EAC27C5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178-F842-452A-8C4A-9C90B398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014-5CEE-490E-895D-B1BF33DB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2F8-8F66-4A41-9E17-F661088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125-4D9C-42F3-826E-2F9A3839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E73-E102-479D-B6C7-20E0F451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3D24-0434-4D27-891A-16B17788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A24-ABB3-4377-BC37-B7E9FA0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516-9ED9-481D-8019-E55DF317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C12-CD10-4C31-B47A-70A86FB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434-A89F-41A1-9F0C-8CB4F8D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14E5E-90F5-4D73-957C-F520F94F4B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