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727114"/>
        <c:axId val="54638454"/>
      </c:barChart>
      <c:catAx>
        <c:axId val="957271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38454"/>
        <c:crosses val="autoZero"/>
        <c:auto val="1"/>
        <c:lblAlgn val="ctr"/>
        <c:lblOffset val="100"/>
        <c:noMultiLvlLbl val="0"/>
      </c:catAx>
      <c:valAx>
        <c:axId val="54638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271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03B-F9CE-46EB-8958-65A8C89D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9A2-3F08-4128-958E-F575A8ED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66EC-1B4D-4543-85D7-249ADF35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6EB7-E8CF-4933-9D41-8156BA63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C92-E829-4E1B-BE43-1FDF6612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FF0-1DD0-4C2B-8315-A751EEF5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F63-38A4-4252-B074-758BABEE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996-B148-467C-8B9C-BE28B37B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E2A-E7E2-4592-8F27-BB554DC6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0F9-9D7C-4C4B-877D-05CFDF49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CCC-6D33-4FEC-AFCF-78412569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1EF-34F1-4CA1-8B70-F81211D5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EAA0D-8E69-47E1-9ED5-71B2E9990A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