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95494"/>
        <c:axId val="11094259"/>
      </c:barChart>
      <c:catAx>
        <c:axId val="48295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94259"/>
        <c:crosses val="autoZero"/>
        <c:auto val="1"/>
        <c:lblAlgn val="ctr"/>
        <c:lblOffset val="100"/>
        <c:noMultiLvlLbl val="0"/>
      </c:catAx>
      <c:valAx>
        <c:axId val="11094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95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891-76AF-438E-B38D-7B5CA1C5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6D7-ACAE-488B-A182-DB994264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820-57A0-492B-9564-FD17AC62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91B-AA19-48A0-A0E3-035A5F3A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A4D-E700-415D-9B59-F5E835B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A2E-48B0-43ED-8624-AB9D44B8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420-396B-4E40-AD42-36DA6EC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1C5-7419-4CA3-8DF1-E5D9C328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253-D4BD-4D74-9F0A-5888BAB9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2A5-2FF5-4D56-9197-43B2F917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95F-E55D-4949-A2DD-8EA24576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B75-6928-499B-B98C-100AF7D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823FD-06EE-4357-B5F2-5812145B8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