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162258"/>
        <c:axId val="86157640"/>
      </c:barChart>
      <c:catAx>
        <c:axId val="431622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157640"/>
        <c:crosses val="autoZero"/>
        <c:auto val="1"/>
        <c:lblAlgn val="ctr"/>
        <c:lblOffset val="100"/>
        <c:noMultiLvlLbl val="0"/>
      </c:catAx>
      <c:valAx>
        <c:axId val="861576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1622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017F-C77E-4858-B9B4-F94BAFA25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8A8A-FCEA-42F4-8055-B969E6F9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E11A-816C-4425-8309-FC9069881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939A-AE75-44A4-807D-D9EF36F01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E6D4-34BA-4B9F-B731-A12E1546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1FAA-44FB-4F2E-9344-D145E392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490E-CE22-4735-8254-CD64D43A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0316-CCEF-4E40-A8D7-27BEC3AE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CD2F-A0B0-4FEB-A22B-F47FD475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1A5E-0C7E-49A0-ACAC-EA510700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5C97-0256-47F4-A2DD-E327FC37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E03A-75E1-4994-83ED-5FBAD024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59D47-CE43-43ED-A184-9BF7185A69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