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42412"/>
        <c:axId val="92357076"/>
      </c:barChart>
      <c:catAx>
        <c:axId val="65142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57076"/>
        <c:crosses val="autoZero"/>
        <c:auto val="1"/>
        <c:lblAlgn val="ctr"/>
        <c:lblOffset val="100"/>
        <c:noMultiLvlLbl val="0"/>
      </c:catAx>
      <c:valAx>
        <c:axId val="92357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42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574-8CF4-4991-802D-EE5DA208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19E-2539-4BB3-9D61-8870D614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387-515E-406F-9007-6287CE68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2EE-3B10-4225-A231-0A890988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055-9CCE-41A1-893C-10B1E0BE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23F-0950-4262-8C99-DECF0417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0D3-C540-4532-A446-AB26B2D0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FB9-9C82-45E3-8D65-E08D1A5C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BCD-84A5-4CB3-AB2F-9704BF24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753-B144-4FF4-B872-C8AB3F8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EB8-7616-4473-9AA2-58EB70F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B20-FBCB-425A-B7E6-C6EA32D1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3A4D0-46CD-46C3-A42C-6DBAB3DF0C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