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59088"/>
        <c:axId val="79706835"/>
      </c:barChart>
      <c:catAx>
        <c:axId val="83759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06835"/>
        <c:crosses val="autoZero"/>
        <c:auto val="1"/>
        <c:lblAlgn val="ctr"/>
        <c:lblOffset val="100"/>
        <c:noMultiLvlLbl val="0"/>
      </c:catAx>
      <c:valAx>
        <c:axId val="79706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9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A79-438E-4684-84C4-308AA956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ACB-D64B-450C-B0EA-D4470452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F99-BDAC-420E-BE66-075757B2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DF3-6A20-4A5E-AA50-79CD35BC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228-B2C3-49D2-B4B2-74A82983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E7B-3AE0-4E12-B1D3-A964486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70D-165F-49DB-A29D-CAE65DF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72A-03EA-4048-8D60-73EB990D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CF4-6C6C-4B4B-B21A-97D130A7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DD7-8CFA-47E6-B362-8B31972E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428-FBAC-428C-AC84-09154F0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24F-88C6-4B24-8758-5C4B23A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3F503-8ED9-4412-9669-34E087C5CE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