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45543"/>
        <c:axId val="15547504"/>
      </c:barChart>
      <c:catAx>
        <c:axId val="15445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47504"/>
        <c:crosses val="autoZero"/>
        <c:auto val="1"/>
        <c:lblAlgn val="ctr"/>
        <c:lblOffset val="100"/>
        <c:noMultiLvlLbl val="0"/>
      </c:catAx>
      <c:valAx>
        <c:axId val="15547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45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E07-36F3-497B-89B2-8B74393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365-11E8-424A-8D7C-24B06DD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667-FCBE-49C0-9C39-79F6FE7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01B-0842-40DC-BAB2-7FA1663A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EFC-0149-4CEB-BD6E-2565BAC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D17-C786-4E7B-8543-38E98FCC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B9D-AAD2-45CE-8D7C-5F5F0C30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17A-D29D-4F72-9693-3433B852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6CC-6F7C-4865-8F01-97DBB2F5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2CA-D023-423B-8EA3-142C6E3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850-6951-441B-B617-6A0FE4B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FA8-3382-4B88-BEFF-50FCBA87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64320-3A7F-45AE-805E-55A9288A67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