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99574"/>
        <c:axId val="22748025"/>
      </c:barChart>
      <c:catAx>
        <c:axId val="85099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8025"/>
        <c:crosses val="autoZero"/>
        <c:auto val="1"/>
        <c:lblAlgn val="ctr"/>
        <c:lblOffset val="100"/>
        <c:noMultiLvlLbl val="0"/>
      </c:catAx>
      <c:valAx>
        <c:axId val="22748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9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5B6-6684-4BAC-87CD-9F9DFABE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B40-9FDC-4F92-9D40-22001D3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832-1B93-48FB-BFE6-70056D1B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8AF-271D-454A-A367-1E658033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6B7-E387-42BA-A975-1D5FEB8C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2C0-11D4-43FA-A0C7-D424C24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C69-9C90-467C-A0B2-322827CE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A7A-20F6-464F-B1BF-A83E9F6B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9BE-E5EC-4909-96F7-F838B51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857-F34D-44DE-B380-84D7B32D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213-D2CC-46DD-B8EA-22405BB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A43-8BD3-41FD-A648-9B72D7A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658B8-3BD9-4D3F-9CC5-E498D9C67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