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745845"/>
        <c:axId val="92440280"/>
      </c:barChart>
      <c:catAx>
        <c:axId val="267458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40280"/>
        <c:crosses val="autoZero"/>
        <c:auto val="1"/>
        <c:lblAlgn val="ctr"/>
        <c:lblOffset val="100"/>
        <c:noMultiLvlLbl val="0"/>
      </c:catAx>
      <c:valAx>
        <c:axId val="924402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458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FDC0-11F0-44BF-BF25-F37E871E6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DE59-2167-424F-85EB-D2F32839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BED2-B7E6-4624-A468-E1FCD298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8C75-51C3-426D-8D6B-E65A4EAB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D595-9C21-4C91-8012-0C9B896D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B943-6448-44EC-96FA-880EB60C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F200-2CE1-433A-B492-2DA049C8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BADB-9C35-487B-A812-A00C069A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066D-278E-468D-894B-28C956C8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981C-3E48-4DB5-B4C1-8D543C7B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2EE8-D4F3-4E8E-9108-1D0777AE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2090-6C00-43AF-84C9-0ED912DA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E7A46-3C84-4B31-985E-9E6534C6D4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