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10000"/>
        <c:axId val="50150503"/>
      </c:barChart>
      <c:catAx>
        <c:axId val="90210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0503"/>
        <c:crosses val="autoZero"/>
        <c:auto val="1"/>
        <c:lblAlgn val="ctr"/>
        <c:lblOffset val="100"/>
        <c:noMultiLvlLbl val="0"/>
      </c:catAx>
      <c:valAx>
        <c:axId val="50150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0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6CA-A4BC-498B-AC13-D0DC9A48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2FB-DDB7-40E0-B20A-5A42F84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9E2-D873-4BE6-9B3A-19E0163E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5D9-9407-4A0D-AB4A-E50A9F7D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5C0-D162-4417-B856-ABB491A5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4E9-670C-4C7D-AD10-B2B6CA92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558-C7A4-47C3-852E-071C4562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B16-407B-49AE-951B-BC377609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D88-28B4-4EAE-A6A1-08D66F0C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5FD-E6F1-4654-BFF6-6053FF36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8B9-1723-4BBA-837C-C044DE9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1D5-E28B-43CA-9818-3B6E00C9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75512-AC48-4C01-994C-79CF1A7E7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