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20823"/>
        <c:axId val="39752935"/>
      </c:barChart>
      <c:catAx>
        <c:axId val="15620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52935"/>
        <c:crosses val="autoZero"/>
        <c:auto val="1"/>
        <c:lblAlgn val="ctr"/>
        <c:lblOffset val="100"/>
        <c:noMultiLvlLbl val="0"/>
      </c:catAx>
      <c:valAx>
        <c:axId val="39752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20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9EC-3CCE-4232-87D4-D6CBA657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354-FBFE-4EFC-9F66-75C435D7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584-04D1-4584-A66F-F9A1CA28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5FC-BC4B-4DC3-8B24-A2EC45AF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676-B8CB-4862-AB1B-ACC9A92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1FE-09AF-4A4D-8583-8F9EA0E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660-B141-4D00-83CD-44CCC73F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910-07BD-44A1-A23F-261EE79C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237-3D94-425B-857B-D655F906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0CC-38D3-466E-9948-5F14AD60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38E-989E-4D62-AAB9-0A96C286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5BA-E6F9-4057-9428-BBAF4ACD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8D1F8-257E-4655-8748-D52AD33424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