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886243"/>
        <c:axId val="40288207"/>
      </c:barChart>
      <c:catAx>
        <c:axId val="208862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88207"/>
        <c:crosses val="autoZero"/>
        <c:auto val="1"/>
        <c:lblAlgn val="ctr"/>
        <c:lblOffset val="100"/>
        <c:noMultiLvlLbl val="0"/>
      </c:catAx>
      <c:valAx>
        <c:axId val="402882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862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D569-63C7-4709-9ECC-B0FAB2F5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B0FC-CD72-4242-990A-0CEEA613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229C-E642-4F9F-A74D-041E959C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FC43-CD3B-4444-90AC-E1FDF1AA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26EA-35E7-466A-B850-FF9B4483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8345-70EA-45FD-8AEB-A9446E65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5F39-1D57-4729-929E-69A945A3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9239-2A1B-4420-B29A-96ABE01D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F86E-4CCE-46FB-81D7-9191F8AC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8D53-A8D8-4DA4-9BFB-EF8774AE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B7A4-EB9D-4579-B234-8F2B0915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D096-AA19-4E87-A7D3-DFDCC5BE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54164-CF29-472B-BA83-4D5C817348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