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57767"/>
        <c:axId val="75405767"/>
      </c:barChart>
      <c:catAx>
        <c:axId val="39457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5767"/>
        <c:crosses val="autoZero"/>
        <c:auto val="1"/>
        <c:lblAlgn val="ctr"/>
        <c:lblOffset val="100"/>
        <c:noMultiLvlLbl val="0"/>
      </c:catAx>
      <c:valAx>
        <c:axId val="75405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7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1B7-9FC1-4EEE-96EE-56CEE5CF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B7E-BD9C-4DA9-8905-42A8DB2E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091-C6D4-4A70-9BFB-AD02A1C2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C9C-B646-4C0D-9C59-849DD055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429-42FF-4E58-805C-44F87281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984-3809-4B75-8E61-A435D83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05A-9BA9-4A2F-838C-F13409C7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52E-79F0-4231-A974-2DFDD4A7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D9B-E932-4BC9-B18B-747D8A1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8F4-CCC6-48A1-B20A-0E252A9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22D-595D-4D1D-8AE2-45C1B67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535-FCCD-4C94-9222-70411D3D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F25A0-B187-44C1-B1BE-A5610A6631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