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29557"/>
        <c:axId val="77673711"/>
      </c:barChart>
      <c:catAx>
        <c:axId val="21629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73711"/>
        <c:crosses val="autoZero"/>
        <c:auto val="1"/>
        <c:lblAlgn val="ctr"/>
        <c:lblOffset val="100"/>
        <c:noMultiLvlLbl val="0"/>
      </c:catAx>
      <c:valAx>
        <c:axId val="77673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29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E06-396B-4C39-A2B0-748BBAE4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2A8-ACC6-45AA-9555-772422FA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F1D-3897-4DFC-9196-2CEEB750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3B7-30CA-437B-A650-FF8E7F81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DDC-4C71-4631-BF56-5200A65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0F4-2A20-458B-88B3-9098E9A4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937-CFB7-453C-BFEB-C92AC212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A78-3FE2-47AB-A108-BD47B3D3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907-513B-488D-866F-355E64B4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4C5-7385-4046-AACA-D927DEE2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CB7-A12A-48AE-B737-083E2D3F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AA7-3E07-49B1-8BAE-A9E3089F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FB960-1951-4087-B4D3-845F412A8E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