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5832"/>
        <c:axId val="6964741"/>
      </c:barChart>
      <c:catAx>
        <c:axId val="47195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741"/>
        <c:crosses val="autoZero"/>
        <c:auto val="1"/>
        <c:lblAlgn val="ctr"/>
        <c:lblOffset val="100"/>
        <c:noMultiLvlLbl val="0"/>
      </c:catAx>
      <c:valAx>
        <c:axId val="6964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5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074-CFB5-43E2-BA18-FFC78353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675-AE62-49C0-A8B2-1E97F4B7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C74-27D0-4AEA-959D-B81150C6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41B-096C-43EA-9176-D21DEDDE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1C0-D371-4F6A-BD47-536B9B7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A31-9149-476D-AC2D-51115F2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424-4456-44C7-BD16-CCBC5FE7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4C3-CEED-4B57-950E-D16D61AE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2A5-BFE5-47EE-89F3-8F1B6AA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EC5-E1E1-4CBE-907B-0E58CE8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6BB-1668-4576-BBDB-869802CC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0F6-4747-40D1-A2D6-CC36F9FB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497C-D05F-4BD0-9419-9B2B12780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