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04400"/>
        <c:axId val="65197426"/>
      </c:barChart>
      <c:catAx>
        <c:axId val="265044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97426"/>
        <c:crosses val="autoZero"/>
        <c:auto val="1"/>
        <c:lblAlgn val="ctr"/>
        <c:lblOffset val="100"/>
        <c:noMultiLvlLbl val="0"/>
      </c:catAx>
      <c:valAx>
        <c:axId val="651974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044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66CF-9EFE-4BAC-96CC-A0B57EFB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62E-63BA-4444-B9E0-CADAA3A6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5C7C-07F0-427F-800D-DAA65E94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83CE-21C6-4D65-B159-DC77D8F7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79D-D292-4130-B570-493F07A1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744-7F25-414A-BB6E-F2BB8A1F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BB81-3351-472E-AAA8-AE83FDBC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FB3B-14EB-4EEF-9B38-92EBAFD7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692-FDF5-4075-8CC9-2FF807CC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04C-E73A-4F87-9715-23581376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5CF-4EC9-4FF3-88F7-2D0B508B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4F5-64D8-4125-AEF9-C5E9693A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5DF0B-F333-4CFA-BF60-3F496A37AF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