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89288"/>
        <c:axId val="76128817"/>
      </c:barChart>
      <c:catAx>
        <c:axId val="73189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28817"/>
        <c:crosses val="autoZero"/>
        <c:auto val="1"/>
        <c:lblAlgn val="ctr"/>
        <c:lblOffset val="100"/>
        <c:noMultiLvlLbl val="0"/>
      </c:catAx>
      <c:valAx>
        <c:axId val="76128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89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1B2-E2E1-4D44-AFC8-A04CF33C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943-F814-4B71-8C18-0D396B57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1FB-2D69-4656-AE98-7CC83D04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7E6-BDA8-49A4-BBC6-0FAD438F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39D-60B9-4BF0-85AD-089AC3C1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10B-FABE-47DA-BD44-620B72A5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E31-07CB-4562-B34C-1CFFA1B1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9C9-F8A2-4359-91A7-5D1C5213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4C1-52CC-4340-A0FD-1896F31F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B68-389E-424F-8C26-3070784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BC6-57DC-481E-A433-B6ED7B1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DE5-ED22-4972-BF02-0A84B21F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08819-C715-4919-ADDA-9080E0F739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