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52338"/>
        <c:axId val="89502871"/>
      </c:barChart>
      <c:catAx>
        <c:axId val="68152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2871"/>
        <c:crosses val="autoZero"/>
        <c:auto val="1"/>
        <c:lblAlgn val="ctr"/>
        <c:lblOffset val="100"/>
        <c:noMultiLvlLbl val="0"/>
      </c:catAx>
      <c:valAx>
        <c:axId val="89502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2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FC4-D414-47A3-9FC8-5F267DAA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06F-C58E-4FED-BACA-105439F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821-DAC8-4050-9D90-5C635D8A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274-145B-46E7-8D75-5EA35B61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D91-9339-477F-B5B2-8D782DE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539-7CFC-4613-9A23-A9A7ADD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ECC-593B-4771-ADBC-D2724BC3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2F5-01C9-4D75-A1A4-AB4A5826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DB8-B074-4461-9775-BCCB959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ECD-E0F7-4B41-A6A4-C467C53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6A9-1E0F-48F1-BEB2-767E6A3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C45-BDF6-4995-A1D5-478F9BB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7F145-DC56-4870-B9FE-87897FF6F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