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157163"/>
        <c:axId val="83779275"/>
      </c:barChart>
      <c:catAx>
        <c:axId val="83157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779275"/>
        <c:crosses val="autoZero"/>
        <c:auto val="1"/>
        <c:lblAlgn val="ctr"/>
        <c:lblOffset val="100"/>
        <c:noMultiLvlLbl val="0"/>
      </c:catAx>
      <c:valAx>
        <c:axId val="837792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57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41D4-4ECF-4A73-A358-4EAD745F0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1BE-56CF-4782-9647-B08211336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CF35-214A-4F82-8F72-6DA3A749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436B-CD7F-406F-8D79-66A5F6CCC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F0B1-F263-48A4-BFA9-E4AC7FD5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450-D4CA-4EEB-B575-8CD35CD27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3F5-FCE2-4D4B-B26D-5B14D71A0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2A9-2D54-4E95-9E03-96EEEA62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A003-3795-4A05-A827-D3E7655AD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1D1-8E5E-4043-A9F7-7174E29C1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FDD-F5F8-4961-93DF-DBA7B1C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58B3-EADF-44AB-A634-A1B47C31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148F43-C9AE-4799-A63C-2BDE93C789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