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51892"/>
        <c:axId val="45154613"/>
      </c:barChart>
      <c:catAx>
        <c:axId val="45751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54613"/>
        <c:crosses val="autoZero"/>
        <c:auto val="1"/>
        <c:lblAlgn val="ctr"/>
        <c:lblOffset val="100"/>
        <c:noMultiLvlLbl val="0"/>
      </c:catAx>
      <c:valAx>
        <c:axId val="45154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51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23D-260E-406C-B5A1-F61537AF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393-E988-4320-AC71-D498C9A7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3DD-86D5-4AAD-B9BD-794B9E12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6D7-D498-4DFC-844E-B7EA6898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C82-D296-49F4-973B-86869894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18C-9713-4590-A4C3-2AF84E4C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A27-68C9-44C6-9008-7A9A45D3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611-D3CC-4994-92F3-2CF3C2E3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19D-F5B7-47DB-90C1-3530BF8B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38A-E122-489F-AC17-57408C13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59F-BDB2-4583-AE05-F59FA7F3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236-9483-4EC3-A2CF-7D6705BF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63B72-78A2-40B9-BD35-C4EF812228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