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19217"/>
        <c:axId val="43718762"/>
      </c:barChart>
      <c:catAx>
        <c:axId val="995192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18762"/>
        <c:crosses val="autoZero"/>
        <c:auto val="1"/>
        <c:lblAlgn val="ctr"/>
        <c:lblOffset val="100"/>
        <c:noMultiLvlLbl val="0"/>
      </c:catAx>
      <c:valAx>
        <c:axId val="43718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192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5C2-E8E3-436D-9507-6FD33490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0DA-B235-4F7F-9173-94F29A21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E52-6E41-4CD3-AD90-1F2D5801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DB8-6EC9-4586-A489-119024A5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2A0-6486-4C72-B073-F808D667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3D0-8D8F-42E8-BC0C-9CCC853A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1EF-83D1-482D-9D9E-63318322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39A-4C8E-4004-8187-E75011E4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613-5109-4855-9F7C-B44C0A22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403-57C5-4E9F-AB34-5CED515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AE7-EB8B-451F-839D-019F5B71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F9F-87FF-4398-B599-6FCC408C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B4C9C-C5C7-47E2-8880-11A57D693C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