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256"/>
        <c:axId val="86984251"/>
      </c:barChart>
      <c:catAx>
        <c:axId val="2423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84251"/>
        <c:crosses val="autoZero"/>
        <c:auto val="1"/>
        <c:lblAlgn val="ctr"/>
        <c:lblOffset val="100"/>
        <c:noMultiLvlLbl val="0"/>
      </c:catAx>
      <c:valAx>
        <c:axId val="86984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ECC-2D3C-4B20-932C-1BA434D8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ED5-7A5A-4787-B764-14609022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C18-7F7A-47DD-964C-D2307FCF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D06-D8B3-4359-A200-84EAF868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1DE-61EA-41FA-A297-F115EAC2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018-C9A5-4B55-9970-F7063521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A5C-4736-431C-952C-4E4A50E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454-2005-49F4-A22F-B2D9C46E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8E9-90DA-43FB-9275-7990133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781-58CC-4CCB-97A1-6742A30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C90-F631-42C9-A7C8-544C4AF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21D-2B14-4175-BD6E-2C7C1C0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AF9B-16E9-4D78-867F-9629BE862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