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24273"/>
        <c:axId val="71734892"/>
      </c:barChart>
      <c:catAx>
        <c:axId val="43824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34892"/>
        <c:crosses val="autoZero"/>
        <c:auto val="1"/>
        <c:lblAlgn val="ctr"/>
        <c:lblOffset val="100"/>
        <c:noMultiLvlLbl val="0"/>
      </c:catAx>
      <c:valAx>
        <c:axId val="71734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24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FC6-A0D1-40AB-9F8E-45D80D1B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4A5-C4FA-4D8C-82EB-8D56FC10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7FD-6412-45AF-9492-3C80EE1F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845-F122-47AF-A3BD-8B7BC681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694-C137-410B-97F3-E8EC0050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253-C0CE-4972-B1F5-F7D310F8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C43-9C5F-4CDB-891D-6C8E1474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E73-F3AE-4A6B-A930-A2BA2FDC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341-CE32-4262-8286-68A7C0B4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AF5-599B-481E-B7AD-FBB1058B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EEF-61EC-44BA-BA33-8C4A1BDA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E10-286C-4142-9FE1-F07A3B1C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6A6BE-7EAF-4BAA-AFAD-EC216741DB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