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203652"/>
        <c:axId val="48986067"/>
      </c:barChart>
      <c:catAx>
        <c:axId val="312036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986067"/>
        <c:crosses val="autoZero"/>
        <c:auto val="1"/>
        <c:lblAlgn val="ctr"/>
        <c:lblOffset val="100"/>
        <c:noMultiLvlLbl val="0"/>
      </c:catAx>
      <c:valAx>
        <c:axId val="489860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2036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038A-7359-44EE-8E39-FBC6B4555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B524-4396-4AB4-BEC7-3D8D091F8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9E74-30D2-4458-8217-7E3E45AD9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D7AE-9509-45FB-84DB-F1153CAA4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0506-98BA-4A92-A5D5-795F366FB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DEEA-5BC2-4BEA-B446-A8B3CD2C6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A955-C3AE-428D-A5C6-3EDCED118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0502-28A3-4E0A-BE53-F4D04153A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B5A0-94B7-45B6-BF7D-095C176AE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300F-4815-4DF9-B6D5-3275011B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58A4-F7E5-4B91-BA49-D51FBB50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58C1-1641-4C51-AE91-D6ECB30A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C42B41-96A2-4601-90DA-E91B4C3093E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