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3315"/>
        <c:axId val="43960207"/>
      </c:barChart>
      <c:catAx>
        <c:axId val="9723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60207"/>
        <c:crosses val="autoZero"/>
        <c:auto val="1"/>
        <c:lblAlgn val="ctr"/>
        <c:lblOffset val="100"/>
        <c:noMultiLvlLbl val="0"/>
      </c:catAx>
      <c:valAx>
        <c:axId val="43960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3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CC2-4689-475F-89BE-B834DB90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43C-17EC-4A64-800F-7F544BE6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6F1-BCE8-4AD9-8C93-9B856796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F72-A3C2-4427-87B5-01C35002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E52-2368-4119-9CEC-E62705BC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1E21-6599-4A0C-8E43-BE933ED5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A3ED-DA6F-4B8A-9238-E773AB25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933-172E-4D02-86FA-F3FA8670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DC6-4B6D-436C-9960-3F5E28E3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444-9B40-4881-BA7F-C90D08DA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20E-E124-4267-B48F-0E7BB511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171C-BFE1-4BB1-9769-A2965140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FCA4C-6C5E-45BB-9F0F-9A85007222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