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9773117"/>
        <c:axId val="39066708"/>
      </c:barChart>
      <c:catAx>
        <c:axId val="3977311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066708"/>
        <c:crosses val="autoZero"/>
        <c:auto val="1"/>
        <c:lblAlgn val="ctr"/>
        <c:lblOffset val="100"/>
        <c:noMultiLvlLbl val="0"/>
      </c:catAx>
      <c:valAx>
        <c:axId val="3906670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77311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3A019-67E5-4305-BD0A-2600CDC99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DA0D4-4DF8-4F97-B904-1721979A1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FA572-1292-460B-AA0D-00B95BE5C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45DF0-2A08-446A-A7F2-2646062DD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B1B46-EC69-42E4-A766-75997BD77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B3801-A53C-47DC-9FED-113C38227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FF3F7-97A8-4921-8C10-DAFE2B043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BE18A-9952-4A5F-8267-BD98F25E8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D0224-ABDF-4488-8E6A-5F2530FEB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49FC0-3653-4CE2-8A7F-F46713208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B452D-A62F-4399-A6A5-FC5F6D455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6A636-F4A4-421F-993C-8C5797C4F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791300-64E3-4941-B999-C588DA01D80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