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3260954"/>
        <c:axId val="84513024"/>
      </c:barChart>
      <c:catAx>
        <c:axId val="7326095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513024"/>
        <c:crosses val="autoZero"/>
        <c:auto val="1"/>
        <c:lblAlgn val="ctr"/>
        <c:lblOffset val="100"/>
        <c:noMultiLvlLbl val="0"/>
      </c:catAx>
      <c:valAx>
        <c:axId val="8451302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26095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84C8B-2F46-4C2F-9950-C579344FB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E0F00-4F9D-4F28-9F0F-C54CE7BAC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E9B45-1B9A-49EB-BB30-BE9E9FCF8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6D95B-277A-4C6C-8699-916AA03E2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0F4B1-9898-4F1A-9F9F-BD1B5138E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AA3D8-61C5-4766-BE3F-A47C049D3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FAAE0-4E8B-453B-8F81-837F3DBC4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2E1F3-374C-494D-9E47-D4CC91F64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D3457-5A44-41CB-B6F2-E263A1209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CBE5F-4511-41B5-A679-0D0612C2D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DA710-5732-4AFB-876F-98045CD07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938F2-C2D0-4613-9614-1D24A9F29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9A5738-A07A-4EAA-86DA-B3476973F55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