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595B82-375D-4562-9F62-34201B78BE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D8D46-6591-4C82-B304-61AA4F16C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1738D1-16AC-4CF8-87F0-00EB1E3ED8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F72AC-4922-403E-B96A-07BC0282C0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B4290-C873-4823-910D-BCC1761A4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BCE286-A5F7-4113-B912-4E16FB630CB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E5F5AC7-1A3B-4AB4-848B-2ECA2015C7D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CCDA7A6-249B-4552-94C3-9630427AB91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2FFE56D-AB09-4B7F-8124-96F38DED76D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40A28CA7-CF96-4184-BD45-F720187325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DC8C5-575D-44F7-91D4-53B307175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BB3DB40-128A-48E9-8A06-06437BC326B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B4AC19E-0538-4F20-BD17-0AE7E3D6616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0872739-7A58-482D-AA5D-2AEF52BB426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F8C8C6A-01ED-473B-805C-8BB41AC4814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375E5B8-CF21-4ABB-A85A-174E971BB34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7BC37B1-E870-4A4D-988F-5E2FAED80CF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FC77046-49F3-411B-948E-581C0C80FA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C3B85-49B4-43C6-8F55-4A0EDF8E2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AE63D-5E9E-4728-AA4C-546DCE7DC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E0289-689C-4E56-9CAA-C298B2CB1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B2E70-CFAB-4CD2-A207-74045E09D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19CE0-AB5E-4586-ABF3-CBDE7AB80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92B82-6634-426C-B0E6-93456E6EE7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2A420-1A9C-4159-9DC3-7C69DFBBCBF4}"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F52DB-8345-4C05-A113-3206CFEB299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3DFCD-DD16-40DE-9924-4FD206824F2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EFBDF-B40B-4A22-8827-0C4353D7A96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C01E2-5531-41B8-AD9D-0455962EA10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E5845-99BD-435F-B797-17B5EDC2F4B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C7931-3DC8-483A-8288-AFE4D06680A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D003C-10FC-4EA5-B557-95B6D9B0453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3017B-5AAC-4FD6-9BF7-101F16FD8EA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B1836-FC9D-4283-8087-5F6892A599C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22FCE-84DF-46DE-BC52-04BE3D0AFA9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8554C-4CCC-4DE0-A96E-F8E854293D3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D96FD-E706-40CE-B340-33FB23DF4D9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D07BB-E024-4174-A1BA-E32E4ED0660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36FA4-5947-4633-9E10-A8B3E063BD9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7F5EB-E203-4DF6-B6D3-D0B9B40276E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422E9-8568-4689-BB2D-490932064DF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D529A-9C5B-4C55-B39D-E9ADBB091ED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2F1D2-76DA-4030-A51A-6A5E360FC19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33EA3-18F4-4EAA-A777-CD7FC0A5392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850AA-186A-4844-8E44-2B2B1C02EBD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E7596-678F-442B-9A33-E681D849B1F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5CBB2-EDF1-4B20-B64B-71BED02FB49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22B4A-28C2-4DD7-9682-C70AE3AE246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08C13-B4AD-49A1-9419-F2B4EAFA19B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D8255-F951-4D0D-8D84-2CC022FD800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67"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8"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68432-B30E-4707-B08B-4AFFC12FF24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3"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A35F6-DD85-4689-936C-B46337C85B2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78"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79"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1"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2" descr=""/>
          <p:cNvPicPr/>
          <p:nvPr/>
        </p:nvPicPr>
        <p:blipFill>
          <a:blip r:embed="rId1"/>
          <a:stretch/>
        </p:blipFill>
        <p:spPr>
          <a:xfrm>
            <a:off x="2805120" y="2357280"/>
            <a:ext cx="3533760" cy="667080"/>
          </a:xfrm>
          <a:prstGeom prst="rect">
            <a:avLst/>
          </a:prstGeom>
          <a:ln w="0">
            <a:noFill/>
          </a:ln>
        </p:spPr>
      </p:pic>
      <p:sp>
        <p:nvSpPr>
          <p:cNvPr id="283"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97E38-41EF-4F7C-841B-CAF3C2FC12B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88"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5BB48-410D-46EB-A5F2-D70ABD04D24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5AA7F-1026-4196-B9A2-A46BCDEA15E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9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2" descr=""/>
          <p:cNvPicPr/>
          <p:nvPr/>
        </p:nvPicPr>
        <p:blipFill>
          <a:blip r:embed="rId1"/>
          <a:stretch/>
        </p:blipFill>
        <p:spPr>
          <a:xfrm>
            <a:off x="2805120" y="2357280"/>
            <a:ext cx="3533760" cy="667080"/>
          </a:xfrm>
          <a:prstGeom prst="rect">
            <a:avLst/>
          </a:prstGeom>
          <a:ln w="0">
            <a:noFill/>
          </a:ln>
        </p:spPr>
      </p:pic>
      <p:sp>
        <p:nvSpPr>
          <p:cNvPr id="30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7AC38-053E-493F-B111-014609D6F62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2F7B9-0F94-45F7-B910-6CF61A22324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AF83D-EC64-48B5-8641-BF707541C47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D4A3C-C776-4E2E-8DDD-BF321352436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14"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57E1F-9231-400E-B320-1BACFCB541C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2477A-803B-4578-ADF3-3E62E217B45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8B79A-8F4B-431A-A1A4-8FF0CAB8761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EFA8E-513C-42C5-B34F-5A624885319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A9B10-EC09-4361-B392-7A51CA9ADD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BB55B-A35E-48F3-B5F4-6C4EB88D036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A7FFD-C447-4439-BFE2-BAFC612957D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21CFD-A0C6-437B-B101-4598BBAB543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CA667-90E5-44BF-94A3-432BE0C5089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a:t>
            </a:r>
            <a:r>
              <a:rPr b="0" lang="en-US" sz="1800" spc="-1" strike="noStrike">
                <a:solidFill>
                  <a:srgbClr val="000000"/>
                </a:solidFill>
                <a:latin typeface="Courier New"/>
                <a:ea typeface="Courier New"/>
              </a:rPr>
              <a:t>when</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6DE93-62F9-4E95-B403-09962412FA1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1B6E1-B158-4A16-AE7A-9DBD49C3045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launch</a:t>
            </a:r>
            <a:r>
              <a:rPr b="0" lang="en-US" sz="2000" spc="-1" strike="noStrike">
                <a:solidFill>
                  <a:srgbClr val="000000"/>
                </a:solidFill>
                <a:latin typeface="Arial"/>
                <a:ea typeface="Arial"/>
              </a:rPr>
              <a:t>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35D3B-9C7E-4562-BD50-A08DEB12F9F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5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Picture 2" descr=""/>
          <p:cNvPicPr/>
          <p:nvPr/>
        </p:nvPicPr>
        <p:blipFill>
          <a:blip r:embed="rId1"/>
          <a:stretch/>
        </p:blipFill>
        <p:spPr>
          <a:xfrm>
            <a:off x="2805120" y="2357280"/>
            <a:ext cx="3533760" cy="667080"/>
          </a:xfrm>
          <a:prstGeom prst="rect">
            <a:avLst/>
          </a:prstGeom>
          <a:ln w="0">
            <a:noFill/>
          </a:ln>
        </p:spPr>
      </p:pic>
      <p:sp>
        <p:nvSpPr>
          <p:cNvPr id="36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CF1F9-8686-433F-91C9-192AF475322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65"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682BE-EF9F-43B7-9535-697314AEDD0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25C72-0C15-4FC3-BC3A-7D11A1CAC5B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2A240-9A15-4EE4-84C2-0E0595350AB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9C6EC-2F53-4DF3-A495-F8A10B687E4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01B68-4298-4702-B1AE-E41A6E2C722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55579-0200-4CEA-8425-6ECB417404E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AC362-9650-4EC6-84B9-93E87CA0F03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AE8FB-E2D9-418A-885A-99D63575829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94"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2049F-D23D-464D-AB06-8584F98CCA6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399"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0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2310D-82F4-4984-BD34-CD27C126723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CFAA1-3E19-49FF-BB5C-925C03A1680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5FE81-0E39-4BD0-A5B5-24EC7FF7216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1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2" descr=""/>
          <p:cNvPicPr/>
          <p:nvPr/>
        </p:nvPicPr>
        <p:blipFill>
          <a:blip r:embed="rId1"/>
          <a:stretch/>
        </p:blipFill>
        <p:spPr>
          <a:xfrm>
            <a:off x="2805120" y="2357280"/>
            <a:ext cx="3533760" cy="667080"/>
          </a:xfrm>
          <a:prstGeom prst="rect">
            <a:avLst/>
          </a:prstGeom>
          <a:ln w="0">
            <a:noFill/>
          </a:ln>
        </p:spPr>
      </p:pic>
      <p:sp>
        <p:nvSpPr>
          <p:cNvPr id="41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1F9F4-D845-4E4C-B484-6CB6A743F4F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2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745A1-50E0-4A3F-892D-85C4FE59AE9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2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4" name="Picture 2" descr=""/>
          <p:cNvPicPr/>
          <p:nvPr/>
        </p:nvPicPr>
        <p:blipFill>
          <a:blip r:embed="rId1"/>
          <a:stretch/>
        </p:blipFill>
        <p:spPr>
          <a:xfrm>
            <a:off x="2805120" y="2357280"/>
            <a:ext cx="3533760" cy="667080"/>
          </a:xfrm>
          <a:prstGeom prst="rect">
            <a:avLst/>
          </a:prstGeom>
          <a:ln w="0">
            <a:noFill/>
          </a:ln>
        </p:spPr>
      </p:pic>
      <p:sp>
        <p:nvSpPr>
          <p:cNvPr id="42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D2567-C807-4BC2-9320-2AEE2A17651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lt;&lt;&lt; &gt;&gt;&gt; &amp;&amp; *% /% +% -% sur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import</a:t>
            </a:r>
            <a:r>
              <a:rPr b="0" lang="en-GB" sz="2000" spc="-1" strike="noStrike">
                <a:solidFill>
                  <a:srgbClr val="000000"/>
                </a:solidFill>
                <a:latin typeface="Arial"/>
                <a:ea typeface="Arial"/>
              </a:rPr>
              <a: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CD4B3-5FA1-4A20-8B49-518BDA44134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968C6-E9FC-4FD7-BD3E-B8A2227104C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B5DAC-9451-47DA-8F7C-4D6279364C2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0" name=""/>
          <p:cNvGraphicFramePr/>
          <p:nvPr/>
        </p:nvGraphicFramePr>
        <p:xfrm>
          <a:off x="900000" y="1727280"/>
          <a:ext cx="7858080" cy="365760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932B8-9692-4D51-9D5A-30305ABC5E7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62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BB1A1-B545-42A0-B715-F37F58D8894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48" name="Picture 2" descr="Manual"/>
          <p:cNvPicPr/>
          <p:nvPr/>
        </p:nvPicPr>
        <p:blipFill>
          <a:blip r:embed="rId1"/>
          <a:stretch/>
        </p:blipFill>
        <p:spPr>
          <a:xfrm>
            <a:off x="6143760" y="1643040"/>
            <a:ext cx="2857320" cy="2143080"/>
          </a:xfrm>
          <a:prstGeom prst="rect">
            <a:avLst/>
          </a:prstGeom>
          <a:ln w="0">
            <a:noFill/>
          </a:ln>
        </p:spPr>
      </p:pic>
      <p:pic>
        <p:nvPicPr>
          <p:cNvPr id="44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DF926-DEDC-496F-828E-ED4404679D1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0C8A8-591F-462E-87A4-1132DB3D82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696600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4-11-12T19:06:26Z</dcterms:modified>
  <cp:revision>474</cp:revision>
  <dc:subject/>
  <dc:title>Agena Language Summary</dc:title>
</cp:coreProperties>
</file>