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184449"/>
        <c:axId val="90277573"/>
      </c:barChart>
      <c:catAx>
        <c:axId val="821844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77573"/>
        <c:crosses val="autoZero"/>
        <c:auto val="1"/>
        <c:lblAlgn val="ctr"/>
        <c:lblOffset val="100"/>
        <c:noMultiLvlLbl val="0"/>
      </c:catAx>
      <c:valAx>
        <c:axId val="902775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844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9BEB-E167-4314-8233-139C4CF9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CCCB-2628-4EB8-9488-24259275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776D-4D2D-4B96-9C0E-AC82BB44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146F-5ECE-448D-AA88-76AA3277D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25C7-8E6C-449E-BA28-00C8BD8D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5812-C0EC-4325-9243-B4D28DAC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9B99-666B-45B0-8AB6-E8CDADFC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B563-9D0A-4951-9A97-759AF860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5639-6219-4278-AD20-FC248502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3F9C-FA11-4FBF-BF84-0A9FF189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663C-1706-4DF2-8A5D-3A457DCD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9814-E41C-4DD2-B535-3F39ACA1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C8BFB-6CBC-4E87-9AC7-4898EC0AFC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