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3"/>
          </p:nvPr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2857320" y="514440"/>
            <a:ext cx="3429000" cy="2571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4"/>
          </p:nvPr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5"/>
          </p:nvPr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A7369-BDB6-42D0-AB91-FC50C466B5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bottom half of previous screen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igger alert on the result of a control ac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 duration of condition before alert fires, e.g. lasts for 5mins within an ho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 frequency of condition , e.g. 10 times  in 30minut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 alerts, which helps in preventing a single problem from generating a huge number of aler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riety of control actions allowed on JBoss Server itsel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tart/Stop/Restar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anage JBoss Launcher Service (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vantages of the Launcher Service on Windows are the integration with the MS Services, on unix can configure the launcher server to restart the process if it exits abnormall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reate DataSourc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ick Control allows for immediate control action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 actions can be scheduled for later execution (may be recurring or non-recurring schedu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view history of previously executed control 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[Extra credit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efine an alert and a recovery alert then trigger the alert then get back to “normal” conditions to trigger a recovery alert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) Define alert for “low memory” (look at the graph to determine a good value of free memory that will assure you that an alert will be triggered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2) Define recovery alert for “low memory resolved” (again, look at the graph to see what a good value would be that would assure the recovery alert will be triggered)]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 &amp; Host Proper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s you the install path to the JBoss server configuration location (e.g. “default”, “all” configuratio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vice Cou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s you how many services belong to the JBoss server and what their types 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v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sts all services (EJBs, JMS destinations, et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s you their current availability metr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figuration Proper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mote JNDI endpoint (jnp: URL) used to probe the JBoss inst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nito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vice auto-discovery enablement 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ormation used to start the JBoss instance (such as the full path to the run.bat and the server configuration name – e.g. “default”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at the Server availa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neath that are high level charts for other metr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to the left shows availability of the groups of services running on this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include when control actions occurred, e.g. server re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define a new Alert on this metr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the chart to the dashboar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metrics that can be collec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ically collected every 5/10m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turn them off or alter collection interv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 are collecting a metric you can set an alert on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 name, description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ority (=&gt; dashboard)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e/In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currently collected metrics are displayed in dropd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06668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36912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601560" y="6486120"/>
            <a:ext cx="811872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2BCBFE6C-C984-460D-8640-09ACBBF1FE92}" type="slidenum">
              <a:rPr b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8160" y="-4680"/>
            <a:ext cx="1550880" cy="960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5176440" y="6477120"/>
            <a:ext cx="3853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740640" y="111240"/>
            <a:ext cx="2332080" cy="14446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onitoring JBos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219320" y="3428640"/>
            <a:ext cx="72388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JBoss Operations Networ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nitoring JBoss Application Serve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Server Alert Defini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533520" y="1295280"/>
            <a:ext cx="7924680" cy="49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ntrol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Variety of control actions allowed on JBoss Server itself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art/Stop/Restar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nage JBoss Launcher Servi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reate DataSourc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Quick Control allows for immediate control action execution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Control actions can be scheduled for later execution (may be recurring or non-recurring schedule)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Can view history of previously executed control action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ntrol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990720" y="1219320"/>
            <a:ext cx="7162560" cy="48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Summary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en the following capabilities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llect JBoss AS configuration/installation information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llect metrics on app server performanc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an define alerts to respond to event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ctions to control the app server instance and install new service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ab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Change the JVM Free Memory metric to be collected every 20 second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iew the JVM Free Memory metric graph and narrow the time display range – notice that this metric is now collected more often than the oth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Define an alert on the JVM Free Memory metric and see that it gets fired appropriately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Create a new Local-Tx DataSource using the Control Actions.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e the DataSource shortly appear in the inventory and that you can collect metrics on it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d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95080" y="1447920"/>
            <a:ext cx="8243640" cy="48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Boss Application Server management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ventor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nitoring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lert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tro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ventory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Type &amp; Host Propertie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Shows you the install path to the JBoss server configuration location (e.g. “default”, “all” configurations)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Service Count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Shows you how many services belong to the JBoss server and what their types are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Service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Lists all services (EJBs, JMS destinations, etc)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Shows you their current availability metric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Configuration Propertie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Shared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remote JNDI endpoint (jnp: URL) used to probe the JBoss instanc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Monitoring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rvice auto-discovery enablement fla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Control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formation used to start the JBoss instance (such as the full path to the run.bat and the server configuration name – e.g. “default”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ventory of JBoss Server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380880" y="1447920"/>
            <a:ext cx="838224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-specific Monitoring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JBoss Server itself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Availability, JVM memory, Thread count, …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tateless/Stateful Session EJB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Create Calls per Minute, MaxPoolSize, PoolSize, Remove Calls per Minute, …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Message Driven EJB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Messages Received per Minute, …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Entity EJB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PooledBeans, Ready Beans, …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JCA Connection Poo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Available Connections, Min/Max/Total Connections, Connections Created/Destroyed, …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JMS Destination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Messages in Queue, Received Count, …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914400" y="1371600"/>
            <a:ext cx="8077320" cy="494172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Monitoring of JBoss Server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"/>
          <p:cNvSpPr/>
          <p:nvPr/>
        </p:nvSpPr>
        <p:spPr>
          <a:xfrm>
            <a:off x="838080" y="2209680"/>
            <a:ext cx="152640" cy="1600200"/>
          </a:xfrm>
          <a:custGeom>
            <a:avLst/>
            <a:gdLst>
              <a:gd name="textAreaLeft" fmla="*/ 97560 w 152640"/>
              <a:gd name="textAreaRight" fmla="*/ 153000 w 152640"/>
              <a:gd name="textAreaTop" fmla="*/ 41400 h 1600200"/>
              <a:gd name="textAreaBottom" fmla="*/ 1558800 h 1600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2362320"/>
            <a:ext cx="838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cc0000"/>
                </a:solidFill>
                <a:latin typeface="Arial"/>
              </a:rPr>
              <a:t>Services</a:t>
            </a:r>
            <a:br>
              <a:rPr sz="1200"/>
            </a:br>
            <a:r>
              <a:rPr b="0" i="1" lang="en-US" sz="1200" spc="-1" strike="noStrike">
                <a:solidFill>
                  <a:srgbClr val="cc0000"/>
                </a:solidFill>
                <a:latin typeface="Arial"/>
              </a:rPr>
              <a:t>deployed</a:t>
            </a:r>
            <a:br>
              <a:rPr sz="1200"/>
            </a:br>
            <a:r>
              <a:rPr b="0" i="1" lang="en-US" sz="1200" spc="-1" strike="noStrike">
                <a:solidFill>
                  <a:srgbClr val="cc0000"/>
                </a:solidFill>
                <a:latin typeface="Arial"/>
              </a:rPr>
              <a:t>in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914400" y="4495680"/>
            <a:ext cx="76320" cy="990720"/>
          </a:xfrm>
          <a:custGeom>
            <a:avLst/>
            <a:gdLst>
              <a:gd name="textAreaLeft" fmla="*/ 48960 w 76320"/>
              <a:gd name="textAreaRight" fmla="*/ 76320 w 7632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20" y="4495680"/>
            <a:ext cx="825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cc0000"/>
                </a:solidFill>
                <a:latin typeface="Arial"/>
              </a:rPr>
              <a:t>Metrics</a:t>
            </a:r>
            <a:br>
              <a:rPr sz="1200"/>
            </a:br>
            <a:r>
              <a:rPr b="0" i="1" lang="en-US" sz="1200" spc="-1" strike="noStrike">
                <a:solidFill>
                  <a:srgbClr val="cc0000"/>
                </a:solidFill>
                <a:latin typeface="Arial"/>
              </a:rPr>
              <a:t>collected</a:t>
            </a:r>
            <a:br>
              <a:rPr sz="1200"/>
            </a:br>
            <a:r>
              <a:rPr b="0" i="1" lang="en-US" sz="1200" spc="-1" strike="noStrike">
                <a:solidFill>
                  <a:srgbClr val="cc0000"/>
                </a:solidFill>
                <a:latin typeface="Arial"/>
              </a:rPr>
              <a:t>for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343320" y="2624040"/>
            <a:ext cx="4648320" cy="304920"/>
          </a:xfrm>
          <a:prstGeom prst="ellipse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941560" y="2112840"/>
            <a:ext cx="304920" cy="1828800"/>
          </a:xfrm>
          <a:prstGeom prst="ellipse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1294920" y="3886200"/>
            <a:ext cx="1752840" cy="205740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1371600" y="2895480"/>
            <a:ext cx="3581280" cy="304812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84000" y="5943600"/>
            <a:ext cx="1078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cc0000"/>
                </a:solidFill>
                <a:latin typeface="Arial"/>
              </a:rPr>
              <a:t>Green=good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352680" y="3962520"/>
            <a:ext cx="4572000" cy="1218960"/>
          </a:xfrm>
          <a:prstGeom prst="ellipse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2819160" y="4572000"/>
            <a:ext cx="533160" cy="144792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286000" y="6019920"/>
            <a:ext cx="1028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cc0000"/>
                </a:solidFill>
                <a:latin typeface="Arial"/>
              </a:rPr>
              <a:t>Metric gra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rill Into JVM Free Memory Graph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990720" y="1371600"/>
            <a:ext cx="6933960" cy="459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2514600" y="1219320"/>
            <a:ext cx="5181480" cy="519732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nfigure Metric Col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"/>
          <p:cNvSpPr/>
          <p:nvPr/>
        </p:nvSpPr>
        <p:spPr>
          <a:xfrm>
            <a:off x="3429000" y="1523880"/>
            <a:ext cx="990720" cy="304920"/>
          </a:xfrm>
          <a:prstGeom prst="ellipse">
            <a:avLst/>
          </a:prstGeom>
          <a:noFill/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1752120" y="1676520"/>
            <a:ext cx="1676520" cy="30456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99160" y="1981080"/>
            <a:ext cx="2146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cc0000"/>
                </a:solidFill>
                <a:latin typeface="Arial"/>
              </a:rPr>
              <a:t>Switch to the “Configure”</a:t>
            </a:r>
            <a:br>
              <a:rPr sz="1400"/>
            </a:br>
            <a:r>
              <a:rPr b="0" i="1" lang="en-US" sz="1400" spc="-1" strike="noStrike">
                <a:solidFill>
                  <a:srgbClr val="cc0000"/>
                </a:solidFill>
                <a:latin typeface="Arial"/>
              </a:rPr>
              <a:t>view to configure metric</a:t>
            </a:r>
            <a:br>
              <a:rPr sz="1400"/>
            </a:br>
            <a:r>
              <a:rPr b="0" i="1" lang="en-US" sz="1400" spc="-1" strike="noStrike">
                <a:solidFill>
                  <a:srgbClr val="cc0000"/>
                </a:solidFill>
                <a:latin typeface="Arial"/>
              </a:rPr>
              <a:t>collection interv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H="1" flipV="1">
            <a:off x="1904760" y="3809880"/>
            <a:ext cx="609480" cy="990720"/>
          </a:xfrm>
          <a:prstGeom prst="line">
            <a:avLst/>
          </a:prstGeom>
          <a:ln w="9360">
            <a:solidFill>
              <a:srgbClr val="cc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1904760" y="2362320"/>
            <a:ext cx="685800" cy="1295280"/>
          </a:xfrm>
          <a:prstGeom prst="line">
            <a:avLst/>
          </a:prstGeom>
          <a:ln w="9360">
            <a:solidFill>
              <a:srgbClr val="cc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00600" y="3505320"/>
            <a:ext cx="1602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cc0000"/>
                </a:solidFill>
                <a:latin typeface="Arial"/>
              </a:rPr>
              <a:t>Select the metrics</a:t>
            </a:r>
            <a:br>
              <a:rPr sz="1400"/>
            </a:br>
            <a:r>
              <a:rPr b="0" i="1" lang="en-US" sz="1400" spc="-1" strike="noStrike">
                <a:solidFill>
                  <a:srgbClr val="cc0000"/>
                </a:solidFill>
                <a:latin typeface="Arial"/>
              </a:rPr>
              <a:t>to be configur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83760" y="4278240"/>
            <a:ext cx="1531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cc0000"/>
                </a:solidFill>
                <a:latin typeface="Arial"/>
              </a:rPr>
              <a:t>And then define</a:t>
            </a:r>
            <a:br>
              <a:rPr sz="1400"/>
            </a:br>
            <a:r>
              <a:rPr b="0" i="1" lang="en-US" sz="1400" spc="-1" strike="noStrike">
                <a:solidFill>
                  <a:srgbClr val="cc0000"/>
                </a:solidFill>
                <a:latin typeface="Arial"/>
              </a:rPr>
              <a:t>their new interval</a:t>
            </a:r>
            <a:br>
              <a:rPr sz="1400"/>
            </a:br>
            <a:r>
              <a:rPr b="0" i="1" lang="en-US" sz="1400" spc="-1" strike="noStrike">
                <a:solidFill>
                  <a:srgbClr val="cc0000"/>
                </a:solidFill>
                <a:latin typeface="Arial"/>
              </a:rPr>
              <a:t>(or disable them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467000" y="5057640"/>
            <a:ext cx="895320" cy="1067040"/>
          </a:xfrm>
          <a:custGeom>
            <a:avLst/>
            <a:gdLst/>
            <a:ahLst/>
            <a:rect l="l" t="t" r="r" b="b"/>
            <a:pathLst>
              <a:path w="1095" h="470">
                <a:moveTo>
                  <a:pt x="13" y="0"/>
                </a:moveTo>
                <a:lnTo>
                  <a:pt x="0" y="470"/>
                </a:lnTo>
                <a:lnTo>
                  <a:pt x="1095" y="470"/>
                </a:lnTo>
              </a:path>
            </a:pathLst>
          </a:custGeom>
          <a:noFill/>
          <a:ln w="9360">
            <a:solidFill>
              <a:srgbClr val="cc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362320" y="5943600"/>
            <a:ext cx="4038480" cy="380880"/>
          </a:xfrm>
          <a:prstGeom prst="ellipse">
            <a:avLst/>
          </a:prstGeom>
          <a:noFill/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878040" y="379872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Arial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Server Alert Defini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 can set alerts for any collected metric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28600" y="1981080"/>
            <a:ext cx="8686800" cy="35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8T18:11:09Z</dcterms:created>
  <dc:creator>John Mazzitelli</dc:creator>
  <dc:description/>
  <dc:language>en-US</dc:language>
  <cp:lastModifiedBy>John Mazzitelli</cp:lastModifiedBy>
  <dcterms:modified xsi:type="dcterms:W3CDTF">2006-01-20T18:56:03Z</dcterms:modified>
  <cp:revision>68</cp:revision>
  <dc:subject/>
  <dc:title>Agent Overview</dc:title>
</cp:coreProperties>
</file>