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3F8A-B5DD-4BCE-B96B-8079BD1E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A76A-4B8C-4719-9915-CDF67A3F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55ABE-435F-4FCC-9259-5BC15E0D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9328F-7135-4DCF-9370-0FC6E6C9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A0561-7797-4E42-A892-DF04C5F9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DC436-497E-4EC6-87D6-31632E66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EE263-2693-49EB-8D93-000CD6FC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1D025-7309-4D19-8CC6-C9A55996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AFE0F-D284-4FAA-8F98-8FD849F7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6FDFE-C662-4F00-B213-62F191A2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383AC-5DE4-4DC0-8FEF-C1102402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6BEE0C-0280-4DB5-B5E9-3043C572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ABA-F692-4D6A-981E-DA6F4DFC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BA0FD7-7CFB-4815-8F3A-1909477F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FFCD6B-8E89-493C-B900-56D42E5D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F306B1-1FFD-409C-AF81-37E64212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78F3C9-175B-4C25-B8FF-26FC797F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B022C0-1A25-4213-92AC-F9358966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AEE0B3-A05D-4788-ADFF-63F3E383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86C209-95BF-4C93-83E7-3040EB5C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60A4D7-0DD3-48EC-BD93-9840E5B0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16BD12-C547-4453-9A96-D2CA182F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1B6CB4-C464-442A-BC29-9B211EE7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D7A2-C3FE-4754-8ABE-9628B831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DED960-B3ED-4359-A6D8-E0F3F5DD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A29AC-36FF-47E1-9DF6-63641A56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5D93B-BA6C-4FD9-B69C-981765E4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F3646-0CBF-40AA-A290-C5FABB2F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4D8AF-D503-4E10-ACF4-05E2B915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6D1F8-8ECB-4AEA-9A05-831AA063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2D818-96CE-4FC3-A555-97B56F7D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E42C9-361A-4FD5-8AD4-998C9F34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121B0-83FF-4441-A83E-20EB5A6A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537E9-4D61-4960-BB25-E4D424D2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3DB4-FBE6-4CAA-B806-D2FA83A6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412AD-DE28-483D-9AB8-D4A7EA24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0245F-F2CD-4707-8A99-D59975D4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FC450-52AA-4B51-A96C-7176C1F0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42F65-A639-42CB-B2DD-DA8C97B1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A38E1-D31F-49C6-9E93-B4625DC6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4FAF6-E952-44F7-A9ED-8DA1B215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581AD-D6E0-4C87-A7BA-801E3C7F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62856-9FCB-4E29-99C0-42ECE9D6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9DAF2-2CC1-40FC-9B3A-1010492B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3B741-D701-4D91-8AB9-78BAF9D9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98ED-8FA6-454A-8C9F-9CEAA5A9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4DC5D-3B86-456E-8B3B-942534C1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44EF2-FFBD-4ABA-90F8-6360F318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5530E-7048-4859-9ECC-346BC054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62FBB-0381-4D81-8565-B6819375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D36C1-64A7-4C9B-A986-3071DC50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AF19-F6E6-447D-8DBF-5C6DD259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4B65-99A9-4532-9ECB-D60EAF06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0429-934B-4037-96F2-B2397115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1AF5-5B90-4FF3-96B1-C8E4F5B5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3653-C446-43E8-8411-A308ADD8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3C4-9DEA-4E40-B4D8-C426E220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7122-475D-4011-86A1-AEEA910A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52F5-AF6B-4644-AE43-52BFE7C0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ED1D-B056-4ED2-ADF1-B27138BC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451B-2FF5-4C6F-835F-3A44DA44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F777-D8C2-46C5-AFBE-B1C8CE9D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DBDD5-86BD-4AB5-8E40-60E6AE4F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AB63F-ABC1-442B-93A4-F6C19DDB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0D616-4162-4463-8122-8BA33840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42CDC-64E6-477F-8EA6-C84F093E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8720D-C591-4D3C-AB60-A0250CEE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418-CE2D-4800-8CE1-0A9709CE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85403-0403-408D-A7B7-77C89D0B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2FAAD-589F-40EE-875E-AC952FD1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44D4E-60B4-41BC-BC36-8155B64E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44592-DD48-4ED4-83A0-C0D7A0A3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976AE-5F2E-40FF-B31C-33194693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9C274-7377-4E04-9765-21DEADA3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25504-C76C-4A27-9C83-0331361E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8C17E-F43E-4A01-B096-E30D1DDA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9F928-3A01-4A6F-89DB-E8522C6D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F649B-78D4-4FA4-AB1A-4BFE2467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07C-0826-482E-A5F7-1FCC9210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F5B4B-C707-4804-B570-7D711311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08DC9-9F74-48B6-9480-1C9E8426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164A7-E4A9-4286-B6B9-A63C7010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BBF17-4CC0-4117-9DD5-D5EAA37B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51434-70B8-4135-8544-213D577C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2800B-96F0-4E24-96F6-83F658C0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F261A-F2CF-4B2A-A956-BB790C2F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D6D4D-AF40-4D82-997C-0E54EEB8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FAEDF-0AB8-40A6-8BF0-259C6D4D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9F58C2-1F29-42A5-BD28-E38D7CD3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6E7-B8BF-4494-B5C3-F811FF9E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55490C-13CB-459E-A395-F4C1D0D1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76F92-1DDB-4A8B-8FCB-7E0062E7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80982D-FFBD-4CD6-A487-0300D371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82DD6C-C044-4D19-BB01-AAA53B99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4FCA6A-6722-4742-809F-F81051EE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813C1B-6152-4114-881F-27272A99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99BC3-1E16-43B3-9904-69A25033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BDF2D6-3967-4091-B89E-BF67154B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FF57F0-F285-4CEA-AFB1-DA941677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6B1779-21A0-420D-A507-88E68EC5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F521-51BB-4102-8BF6-CCBCCA1C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98C7A-F1E3-4531-B30E-5DCFDA9C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DA9FF-8D36-4F31-94AF-41830DF8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B3C53-5608-4B3E-A7D4-E5244939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F0F0A-2021-40D2-A4B8-24DCEE65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AC793-CEAA-44B6-B573-30DED6FD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FF1FE-4EEF-4F40-AA62-C12B8C9E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A581E-8BC7-4E25-94AD-2349DE05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2FB40-61CC-436E-A051-3B09289F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98084-CFEC-422A-A027-F7365726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C3088-13E9-4BCC-B039-3BE27E6B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018F-B198-4D65-B3DE-98ABAD64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3EC44-6186-4EA9-AF84-FC8BEA3C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1DBEF-9258-487F-BD7D-D75249AA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0CA0A-E81C-4DF0-B9C1-DF4F71D7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8B996-7FAE-4386-8ECB-2408D14E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686E2-484D-4504-BF7C-175F2C2A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DA4DC-1157-4C97-956C-C91AF23C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2BE76-BA49-42DF-8100-DFA3CF86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3A9AD-B310-47C9-94E3-4C2D65FE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6D624-37AC-45E8-BE58-2C039646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361F5-8B60-4EA6-B698-8AEB7E64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311-B472-4992-B79F-14A2FF75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F5A55-2903-49CC-95D6-C6BBA37B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69D21-14C4-4BF3-9C76-30F1C5DE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FEAD2-BDF4-4D04-90FF-E168BA30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EF5AF-872F-4079-972B-4352EC92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17354-8D0C-435F-B255-FD32147F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70C49-88FA-48EC-ACB4-E6FC5CDB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B0FB8-4BA6-4C64-9696-5C5A2897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2E542-0756-4646-AFB1-60BE135D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8EEEF-42BD-403A-9953-B0D23E5A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7B5D8-AD3F-4F67-94BE-3A927052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9BC2-F545-4AB6-AC56-AE8ACEDC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D9F09-79ED-4E42-A736-796C9C3D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0A8A3-79B6-4080-A406-49A1AE60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C02AD-B8C6-40CF-8374-E288F6F6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8B3F4-0D38-4091-A5B1-4266C8BC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A4453-CFC0-4F49-A4DF-3D8AB953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05706-0359-491E-9BF3-E6509631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3A612-E146-44AE-8BD4-712472C3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5903E-81CF-481C-A9E2-B6984D01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D8550-A810-475C-97F2-8D9727C4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E5847-B3BD-4807-B15D-30C9E7FA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9017-C557-4AB3-A2E1-C651554BCFA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2184-C22A-4683-8E8A-4A4E350B60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CF16-2826-435B-AC00-BA70FF87B04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0797-6BE1-4670-9173-C7D9DB47E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96F9-A15F-4CC6-8E72-867DF77A4B6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2199-4D6C-4EBC-8EC8-B0BE2CF609E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AB17-8ABD-495B-91E1-BE9C9E41ACB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75FC-B624-473F-8BEB-A39DC182A7A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C611-0448-4441-9428-A0518F2A490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AF1E-2F42-4354-AD90-EE8B65BE9C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8BD9-B176-405F-9598-3C27CAEAB6A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9242-E51C-41C9-B00B-4B1F1D87B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5733-C97F-42EA-9F08-D62ADA85618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430C-6270-4BF9-A80D-0E62A73BB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6219-04DF-4DE2-A7B8-B1D3D6A42C4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E31E-6CAA-44B9-B215-7EB5161E42C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64AF-0852-45E1-919C-86F8B361064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C93B-A8B4-4579-A043-CEFE0B92DE1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3DB4-7768-4149-8B25-49F6BF62EDA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4FD2-84DB-424B-B4E5-D2A120D9A7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8417-CB30-4276-9599-7C91D827339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3773-73A5-4BB3-B52B-EBFFC06A515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2964-6C1E-4253-B680-90F5754C323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CF4A-8271-4BAA-91C6-E3B6B2A79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A826-F7E4-40AB-8301-868667E8FB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22252-90D8-45F5-A793-CECAC03E4080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C8A9F-5F45-416E-BE02-1FC9078CB3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E19256DD-D5B8-45B9-AD38-6D68BB87C251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29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F5EB0-7633-47C4-98F8-2142AC6A24A7}" type="slidenum">
              <a:t>3</a:t>
            </a:fld>
          </a:p>
        </p:txBody>
      </p:sp>
    </p:spTree>
  </p:cSld>
  <p:transition>
    <p:comb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02B7E4-493C-40FD-8A88-0CD61909E2D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2EC7E576-0299-428A-981A-A44E845F37E7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A08A9-1F74-41ED-9191-BAE1E0130E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5418DEB7-2D62-4A84-9123-9B64C6270772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7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1DC8E-2C72-40A1-A233-6B390B71390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3168AF0A-BC12-433E-9E67-DD072FA9D42D}" type="datetime1">
              <a:rPr lang="en-US"/>
              <a:t>07/31/26</a:t>
            </a:fld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