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CAE-38FC-49DA-8DD7-B1BBFE25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0B5-96DB-4E33-8D9E-520E4F53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4099C-FBF4-41FF-AA75-3DB856E7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A8B05-C205-4B14-AE28-22A1A193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209AF-C2CD-4A85-9475-70D684B8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76450-1064-4D1C-9C94-EC8EA977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811D3-D872-4281-AC9D-8C748CA3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6BA94-2409-4368-BACC-192B5F8C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59CFF-71DC-4457-AC22-43DFDF70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AA2DB-63E9-486B-A14A-9C4EE0E2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2EE74-0613-420B-B4E6-0518D296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A1E4C9-989E-400F-B255-B66C1E1E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A0F-59E2-422B-9A29-9EAD3E3E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9B2203-763D-4A12-A51F-16C91741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91ED34-8565-4837-B71E-D45E63ED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4D281C-CA5B-4A1D-81EF-DABC476B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3B560F-9A92-45CC-B7E9-67FA5C7A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2165DC-DD8A-461C-B0EE-87D99108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76F01E-F33D-4DB7-8085-D5F799A1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58379D-A838-4307-AC1F-51728D94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6887FE-41D1-4A3E-B4F8-7F7D4740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10A872-B753-4035-BE46-61277CE2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429F75-32C3-487A-A1C4-FC89C2B8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0C3-34CE-4D87-9E10-029E7049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ED37CD-57E3-4854-8FDB-567583D6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B39B9-E291-4DD7-9963-F9B23BC2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A86A2-DA46-45BC-800A-9982D019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CC1A5-37BD-49C3-A70A-78341CC9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93068-D916-47B6-939E-E6ED8610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DB4A5-21E8-478C-B689-AEA778EA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35077-6B88-4154-9467-AB03C837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60597-2E4B-4994-BFF0-2E425F05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A84D1-F8F1-4442-B0CD-49638F3A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AA33C-290C-4CDF-A3C5-3F23A929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82D1-7E92-46DD-A617-13C632D6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DD70D-A57C-4708-9F39-9A5FCD7A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C7108-25CE-4D81-A002-60DE07E3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F233F-5C52-491A-9BF9-57AC3B7E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9D9C1-0C62-48E0-9FA4-FC9F4E75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4291D-8327-4DD1-9979-13C93075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C4518-5DA3-4FC1-85D2-4A2AAA22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11C5A-8403-429D-B6AA-D6368F85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3043D-F930-481D-9EEF-DD535802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F4311-00F9-45A3-8FBC-B62EA35E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544D0-518E-4E2D-A4C2-42671CDA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1AF1-4E42-45B3-9613-ED9AEC2E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747E0-0FFF-420D-96F0-BEB32972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9D840-50A8-4B73-94CB-CC28098B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FC556-8CD5-48BD-BE4E-CB58894A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10816-C7C4-4081-8F11-1FCA47DC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235D7-4D34-4DEC-B6A1-2751F824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EACD-1BFE-4B8C-AFB0-47B1B80B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3F7D-AC6A-42ED-976E-3AF4E8E7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1026-8BE3-4806-B3B3-FA4BF531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40AE-5A89-451B-B62A-3C520AC1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6B94-0103-4A16-9D5D-56AA8D0C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6C9-5101-4A90-A304-6DAD833E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82A8-0725-455C-AA64-2CB06ED9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256C-9A0E-48F3-84C6-2B8A20D7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7C8E-519F-4B2C-8ECB-6F341F13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D323-4B51-4BA2-A77A-51B8E61C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ACA8-4989-49D4-B20A-DC3807A3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9B05C-7C94-48C6-AEB3-4D81A5E8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A190E-2BCC-4411-8EB2-E7E14447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A1E1E-AB53-4271-8CFF-92D34344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BD284-9F77-48ED-AE16-15097C62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753F-8966-468C-8B2A-552ACB72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D27-64B1-4E65-B0D7-2EF6C759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57DA6-995D-4DE3-82BB-457C6F85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D47B-74AF-44DB-A2BB-CA294210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0132-3F50-43B1-A819-80CDB4E5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3525-AB1D-47D5-9320-891258F4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07071-2525-4168-B674-A18639FB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922FC-7499-4A1B-959B-DE09E86A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CBBC7-40A2-413E-9C8A-9A90C654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7CDFA-3456-4DFE-B7AD-433EFFFF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8154-4D08-4319-8A41-F2804A59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215AD-AD05-46E3-9953-58DAADCC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918-B0E6-49F3-BDC2-33963F86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85F3F-33E9-4E59-A718-BB0BE62B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0BAC-6C4D-4E87-B065-12E45620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13C36-9798-4F71-BB9A-F171FB22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609E-ECC9-4BF1-85F5-014F2148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B402-6D96-43B0-B27E-7284E189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AA8C-B80E-469F-B454-CA4ECC8A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16BDF-5700-4B3E-A1F6-0BA6AF34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BD087-0ED8-437C-9E96-E2D69116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C842D-1B22-4AA4-9F37-E8D96A62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C918E-9979-4EF8-B4B6-096BED0A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E81-2EB2-48D3-BFD0-BA96D39E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52DE9-98DC-434D-868F-B04EC0C0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19B54-4A2C-4E23-861F-FC9FF236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154CE-A398-47FD-98EB-1D3DE03A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3DC6AC-0165-4637-B7FA-EE9BB3A5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4CDCA-F58E-4F95-81EC-059F3950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AEBA30-0E7A-4709-8729-1A34DD0A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47DB4-7506-45A7-AADA-7E30136B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237C4-49E0-460F-82C9-0AB7E71A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76302-D322-475C-B91A-9D73D46A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10D4E-002E-4C3E-B6C8-400B2C41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1F5-5F71-4D89-8EBD-5944AA4E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9ECED-C075-40CF-9322-919628B9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14541-5C1D-4A40-ACC5-C4382A96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4A497-94D8-49A2-BAAF-B7D38EF5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7AF03-C4E5-4D6A-BEC3-A8DBEF50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2205F-D92B-477A-A5EE-420B18DA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13ED9-7092-46DF-9EF9-4690AD85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A3BD5-D3D4-4C60-976D-EAA2EBA6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21298-F769-4964-923F-CBB346A3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12198-2C45-4A13-AF6A-70B99BB3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8B7D1-A4B8-4490-8F1C-7C9DC1DA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A9B-2732-45B2-A5CF-2D6D3A65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15B0D-63F1-4157-8E1D-DFB9FBA1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0F371-88FA-405E-BCD5-291548A5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562CD-9380-48A4-BB27-C7BEE422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25A83-BCF7-43F7-A607-311B3906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3F58A-A584-4123-8CE5-D243C559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F0DBC-6309-4FEF-86AE-1B316D61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AB518-A943-45C7-A0DF-C56E6965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09E8B-B316-4D39-BF98-4BDA371E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ABF80-D5A7-48E7-8279-D67FEBC6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5A198-3957-4ED1-814A-8F14FCAF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890-7D03-42F4-A4B4-29F22916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067F8-2FC5-4775-96BD-1DC94AFB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7D9F4-D0AE-4ADE-87EA-D72F8220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7B5A2-0511-4A5C-8120-B62FFB1A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20DF7-3C24-45E9-B7A9-C6E904AE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8B2AF-E1E5-42EA-81DE-029AA44E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1E904-66DF-476C-8DCD-F230AA5A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674AA-F175-49F2-A9CE-92C77048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ABE96-E702-4018-B409-C1FF606C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B4B4D-B0DE-416A-8211-A406E72D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98AB2-2C81-4F54-A61D-BB309089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A29-8255-4B69-8A33-3D6B3718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789F5-6CDE-454C-A35E-2C2E34F4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E66AF-0C6A-4F3B-A894-76C41189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D4926-BAA1-4102-A59A-77032D22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71CD7-1A69-4E92-B11B-44A34807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3778E-9BA1-495C-91B8-3E531159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C78AF-E76E-4B33-B335-CAF782C1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661D8-0297-43F3-9031-63B4BB96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5F745-57F2-4F47-B715-CCCD16EF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A337C-1111-4130-A633-BB96498F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F216F-4FA7-4E2E-8515-671C9D2D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D3F2-668F-4535-8E23-D0012D36678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E804-2EF3-4B34-89E5-453581211C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646C-ACFB-4742-ADFB-02C67787B72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B122-7A9A-4D87-B422-3A3F270E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E42E-FB24-4C8A-A3B0-333BD347072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87F0-DA5A-4757-BBE6-159A0DF72F6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8786-EE39-4361-BFBF-D9338ECE382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BE05-E6A3-40FD-89E4-FD798D21CF1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377D-F5C6-44EE-BE48-7C6DECE2B33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1A18-56DF-44AE-B7E2-4E57E759D9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D360-E6DA-4A82-82C4-131C90D56A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5337-7BF7-46BF-8122-6227A852E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4874-F3BF-4F2F-AF32-08B10AB5363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C0D5-9C82-44C8-B79A-331D4165F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0BCB-023A-452C-9839-DD45E232EA8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5894-9FCA-4C4B-81C6-D9F91F1A9CD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7EFA-E521-46F8-BFD4-776FC8269AC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87DB-EF5E-45BE-9451-A991B709FED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19BB-3A99-4929-9A0B-261BC061AA1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A1F3-F6F0-47B8-BD7B-6DB2B0A98B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83FD-A841-45D0-82FB-4E1BF1CE64D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F9F7-7968-4ABC-828F-D91A8BE0DC3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D43D-9993-43D8-A72D-7297C4DE3F3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CAA0-BF33-495C-83FC-B0BE55BA8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7F4-84F6-4793-9A59-8D35E41197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76FEC-4685-4BC4-B74B-4F4A04BEEE49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39FB9-FACF-4919-8150-C6ED1E0575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1CD9E40-2B09-441E-81F3-0DD9414B9131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0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E5B4-00BB-4986-957C-A7478C347EC5}" type="slidenum">
              <a:t>3</a:t>
            </a:fld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D85A6-EE60-4E92-AEBE-2C3EDB91750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5B49535-DA75-4A25-9777-E10DB4236826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A1602-9B50-40AC-88F1-ABC64A09E2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E98D8A0-1EF1-4F70-A132-419754F57B49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EE827-615C-4B1D-B4F3-E25E50700D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0991085-3FE7-4208-8974-663FD2476371}" type="datetime1">
              <a:rPr lang="en-US"/>
              <a:t>07/29/26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