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5EB61-8324-4289-86F3-9E089433A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1EBDE-BBBD-4754-9142-EAF0A82DD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538A9-785C-42C4-BF7E-3BD580551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A095B-E36F-4CB8-8741-CCA04A115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5375D-1357-4D35-9BD5-A9687CD74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6BB17-6AA6-4DC1-88A6-2E4F00CA8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CAFDB-B77A-4C93-83E6-90B6CE57D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26E78-466F-498D-8EE2-935A0F7BA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21C5C-4F14-40C6-B981-54BA97E2B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E1CCF-7899-4989-AC2A-3D46DEFEC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9B8C9-C06D-4570-9C48-2148E5989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13069-84B4-4C6F-89C3-12E583D93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1DC05-3395-4536-9063-4484BD6E0C58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igh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uturnArrow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-Tur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066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99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124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Strip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899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Notch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lef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hevr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rightArrowCallout">
            <a:avLst>
              <a:gd name="adj1" fmla="val 25002"/>
              <a:gd name="adj2" fmla="val 25000"/>
              <a:gd name="adj3" fmla="val 33335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eftArrowCallout">
            <a:avLst>
              <a:gd name="adj1" fmla="val 25002"/>
              <a:gd name="adj2" fmla="val 25000"/>
              <a:gd name="adj3" fmla="val 33335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upArrowCallout">
            <a:avLst>
              <a:gd name="adj1" fmla="val 50007"/>
              <a:gd name="adj2" fmla="val 50003"/>
              <a:gd name="adj3" fmla="val 16667"/>
              <a:gd name="adj4" fmla="val 666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downArrowCallout">
            <a:avLst>
              <a:gd name="adj1" fmla="val 50007"/>
              <a:gd name="adj2" fmla="val 50003"/>
              <a:gd name="adj3" fmla="val 16667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16200" y="0"/>
                </a:lnTo>
                <a:lnTo>
                  <a:pt x="16200" y="8100"/>
                </a:lnTo>
                <a:lnTo>
                  <a:pt x="18900" y="8100"/>
                </a:lnTo>
                <a:lnTo>
                  <a:pt x="18900" y="5500"/>
                </a:lnTo>
                <a:lnTo>
                  <a:pt x="21600" y="10800"/>
                </a:lnTo>
                <a:lnTo>
                  <a:pt x="18900" y="16100"/>
                </a:lnTo>
                <a:lnTo>
                  <a:pt x="18900" y="13500"/>
                </a:lnTo>
                <a:lnTo>
                  <a:pt x="16200" y="13500"/>
                </a:lnTo>
                <a:lnTo>
                  <a:pt x="16200" y="21600"/>
                </a:lnTo>
                <a:lnTo>
                  <a:pt x="5400" y="21600"/>
                </a:lnTo>
                <a:lnTo>
                  <a:pt x="5400" y="13500"/>
                </a:lnTo>
                <a:lnTo>
                  <a:pt x="2700" y="13500"/>
                </a:lnTo>
                <a:lnTo>
                  <a:pt x="2700" y="16100"/>
                </a:lnTo>
                <a:lnTo>
                  <a:pt x="0" y="10800"/>
                </a:lnTo>
                <a:lnTo>
                  <a:pt x="2700" y="5500"/>
                </a:lnTo>
                <a:lnTo>
                  <a:pt x="2700" y="8100"/>
                </a:lnTo>
                <a:lnTo>
                  <a:pt x="5400" y="8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ircular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95280" y="620640"/>
            <a:ext cx="6264360" cy="29527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leftRightArrow">
            <a:avLst>
              <a:gd name="adj1" fmla="val 50000"/>
              <a:gd name="adj2" fmla="val 3981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00" y="6500"/>
                </a:lnTo>
                <a:lnTo>
                  <a:pt x="4300" y="8600"/>
                </a:lnTo>
                <a:lnTo>
                  <a:pt x="8600" y="8600"/>
                </a:lnTo>
                <a:lnTo>
                  <a:pt x="8600" y="4300"/>
                </a:lnTo>
                <a:lnTo>
                  <a:pt x="6500" y="4300"/>
                </a:lnTo>
                <a:lnTo>
                  <a:pt x="10800" y="0"/>
                </a:lnTo>
                <a:lnTo>
                  <a:pt x="15100" y="4300"/>
                </a:lnTo>
                <a:lnTo>
                  <a:pt x="13000" y="4300"/>
                </a:lnTo>
                <a:lnTo>
                  <a:pt x="13000" y="8600"/>
                </a:lnTo>
                <a:lnTo>
                  <a:pt x="17300" y="8600"/>
                </a:lnTo>
                <a:lnTo>
                  <a:pt x="17300" y="6500"/>
                </a:lnTo>
                <a:lnTo>
                  <a:pt x="21600" y="10800"/>
                </a:lnTo>
                <a:lnTo>
                  <a:pt x="17300" y="15100"/>
                </a:lnTo>
                <a:lnTo>
                  <a:pt x="17300" y="13000"/>
                </a:lnTo>
                <a:lnTo>
                  <a:pt x="13000" y="13000"/>
                </a:lnTo>
                <a:lnTo>
                  <a:pt x="13000" y="17300"/>
                </a:lnTo>
                <a:lnTo>
                  <a:pt x="15100" y="17300"/>
                </a:lnTo>
                <a:lnTo>
                  <a:pt x="10800" y="21600"/>
                </a:lnTo>
                <a:lnTo>
                  <a:pt x="6500" y="17300"/>
                </a:lnTo>
                <a:lnTo>
                  <a:pt x="8600" y="17300"/>
                </a:lnTo>
                <a:lnTo>
                  <a:pt x="8600" y="13000"/>
                </a:lnTo>
                <a:lnTo>
                  <a:pt x="4300" y="13000"/>
                </a:lnTo>
                <a:lnTo>
                  <a:pt x="4300" y="15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0:52:08Z</dcterms:created>
  <dc:creator>tb121644</dc:creator>
  <dc:description/>
  <dc:language>en-US</dc:language>
  <cp:lastModifiedBy>tb121644</cp:lastModifiedBy>
  <dcterms:modified xsi:type="dcterms:W3CDTF">2005-05-25T10:52:24Z</dcterms:modified>
  <cp:revision>1</cp:revision>
  <dc:subject/>
  <dc:title>Slide 1</dc:title>
</cp:coreProperties>
</file>