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C58C-78C5-4773-BA17-CC72D94F8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280A-1114-4AB5-9217-76B2A18C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3E5E-8374-4058-9168-52677E24F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7112-D419-42BE-8B1E-BE3737DF6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9DAB-4C98-42EB-807D-BF3F32ED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844F-AB88-44E4-B371-A56F69B1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9F8C-A968-4A32-9FE1-173C546D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F55F-6E7C-4A3D-BAED-12533115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21DA-6843-4875-A032-93374C5B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4354-8985-45BB-8F1D-2425B2CB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3065-9748-4778-AFB8-D1B52F55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BC00-9DAD-46DC-BD08-3103BCD9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2B21-C2F1-45EE-81C6-096971824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Zebr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ted routing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Magic Labs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daem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apping service around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rnel routing table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istribute routing information between different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DEL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LOO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INTERFACE_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RIP Version1, 2  RIPng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G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refl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flap damp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OSPFd and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time to develop other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daemon has their own terminal interface and configuration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(for *BSD),RIPd,BGPd(dump only)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ML                                 &lt;zebra@digital-magic.co.jp&gt;                           for subscription please write to           &lt;zebra-request@digital-magic.co.jp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Home Page              http://zebra.digital-magic.co.jp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Zebra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distributed multi-server multi-thread routing soft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free software distributed under G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Modularity,extensibility,maintain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t provides user level packet forwarding table when working with GNU Hu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do we need yet anothe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uting softwar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er development software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ernel routing table update and redistribution between different protocols are provided by zebra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ther daemons are for protocol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Easy to add a new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BGP route server and route reflector are integrated into BGP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multiple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ncreases modularity, extensibility, maintaina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allows incremental development of a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add a new protocol without changing other source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easy to 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servers can be s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nter process communication V.S. intra process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kernel routing table updates and redistribution would be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Authentication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Zebra architecture on GNU Hu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30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2895480"/>
            <a:ext cx="99036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fi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39400" y="3429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440" y="342900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640" y="33526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4114800"/>
            <a:ext cx="990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4952880"/>
            <a:ext cx="59436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533412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h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010280" y="2209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22096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019920" y="2361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23623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2209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02920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2514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9400" y="34290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419112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1460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2360" y="32767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2360" y="39625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user lev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ing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IP Address  (and destination) based policy ro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 interface routing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much more ideas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4876920"/>
            <a:ext cx="99072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56386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5200" y="495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60958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6095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4038480" y="441972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876920" y="44197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31T16:02:06Z</dcterms:created>
  <dc:creator>Digital Magic Labs, Inc.</dc:creator>
  <dc:description/>
  <dc:language>en-US</dc:language>
  <cp:lastModifiedBy>Digital Magic Labs, Inc.</cp:lastModifiedBy>
  <dcterms:modified xsi:type="dcterms:W3CDTF">1997-06-08T12:35:31Z</dcterms:modified>
  <cp:revision>13</cp:revision>
  <dc:subject/>
  <dc:title>The Zebra Distributed routing system</dc:title>
</cp:coreProperties>
</file>