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267015"/>
        <c:axId val="40758189"/>
      </c:barChart>
      <c:catAx>
        <c:axId val="712670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58189"/>
        <c:crosses val="autoZero"/>
        <c:auto val="1"/>
        <c:lblAlgn val="ctr"/>
        <c:lblOffset val="100"/>
        <c:noMultiLvlLbl val="0"/>
      </c:catAx>
      <c:valAx>
        <c:axId val="407581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670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B03-F350-45D4-842C-7A4991DF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AED8-22F1-414F-B266-3DC0DF8C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286-714A-40C1-A096-1AB36C9D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183-A169-482A-9B05-FDE76787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84D8-7D28-4C61-840F-089B86E8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73F2-337A-4C02-94B4-0CB253A7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61A5-6BBD-4788-A9CE-ACC22F6A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0A4-397F-4FC3-AE90-E1A3085E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A1A1-9A2C-497C-B70C-4517C31E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56B5-E16C-4417-B7A0-6F1EAEEF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2C1-1A8D-47C0-B0C5-9DA3955C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4F5-6566-4892-803A-82B6AF06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A1283-864C-4A93-AC8D-9D7C529082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