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01761"/>
        <c:axId val="69570459"/>
      </c:barChart>
      <c:catAx>
        <c:axId val="89601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70459"/>
        <c:crosses val="autoZero"/>
        <c:auto val="1"/>
        <c:lblAlgn val="ctr"/>
        <c:lblOffset val="100"/>
        <c:noMultiLvlLbl val="0"/>
      </c:catAx>
      <c:valAx>
        <c:axId val="69570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01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4DD-0849-4ED3-B2A3-7961DEDF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22D2-461D-4614-9B03-2C36E5E1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D71-8A5D-4522-B7BD-ACD6537E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2A2-837B-4BD0-8FB1-D389907F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C52-B5AE-4609-86F9-5720F1CB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425-9624-48C3-BFDC-DCDAFD4B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942-AC31-46AA-BE2A-D50AA86C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491-DDE9-4863-ABA4-5DEADA7A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5F3-CAC1-4890-992D-A71EF404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C9E-94FB-4691-BA4C-123E16AA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60A-6EDA-4140-8737-6985BBBD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60B-4112-4EF9-83D6-D6AC5013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D0BF6-2B9C-4885-BF26-72A1999B0D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