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64360"/>
        <c:axId val="15714168"/>
      </c:barChart>
      <c:catAx>
        <c:axId val="750643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14168"/>
        <c:crosses val="autoZero"/>
        <c:auto val="1"/>
        <c:lblAlgn val="ctr"/>
        <c:lblOffset val="100"/>
        <c:noMultiLvlLbl val="0"/>
      </c:catAx>
      <c:valAx>
        <c:axId val="157141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643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3F82-2B12-45C0-8A4B-85C11F7B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30E-B6E3-4905-8A69-1A31F2FC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038-9EE1-4F69-9215-71BB7A03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A5C8-5DF7-484F-A044-B8A62434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056-AD4F-412D-9E9D-B738B95A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319-9CD8-4496-8299-C1CF7060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906-6E5A-4829-B759-19894FCA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313-488A-4E9B-ACE5-BEB7D128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2293-7793-4447-8B2A-7C2638EC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A1A5-5DD8-46BF-9A9D-CBFF96BD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BCB-5E84-4FC1-8BE3-731E5C29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49F8-3769-48BD-AA47-48C6ACD4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A25E2-52CC-4330-AA8D-3BD9035E0D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