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307"/>
        <c:axId val="78497796"/>
      </c:barChart>
      <c:catAx>
        <c:axId val="193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97796"/>
        <c:crosses val="autoZero"/>
        <c:auto val="1"/>
        <c:lblAlgn val="ctr"/>
        <c:lblOffset val="100"/>
        <c:noMultiLvlLbl val="0"/>
      </c:catAx>
      <c:valAx>
        <c:axId val="784977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B143-9924-4E30-9533-2567B83F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9AEF-E761-49AC-9268-14F3AA18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2159-2810-4581-BC23-A974FD2F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5560-49E1-46BE-8D7E-24B13345B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69C5-09E1-4D4D-8917-0EAB39A2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F8F2-C3B4-4299-A9EA-3B6DF5B0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7C7F-6F93-49DF-BC09-6106ADEC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4402-4DE6-4680-9E9D-DA9A3D15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CEB4-3BCB-4E25-931D-AE8616E7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147D-E37F-44EE-A4C5-7B59AEE8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E47A-3083-460B-AEEA-222F5E8D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FD4A-E87A-4688-ABDE-1AB8EDDF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B705A-D36A-4D9C-8884-2E388455C0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