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78962"/>
        <c:axId val="59605582"/>
      </c:barChart>
      <c:catAx>
        <c:axId val="93478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05582"/>
        <c:crosses val="autoZero"/>
        <c:auto val="1"/>
        <c:lblAlgn val="ctr"/>
        <c:lblOffset val="100"/>
        <c:noMultiLvlLbl val="0"/>
      </c:catAx>
      <c:valAx>
        <c:axId val="59605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78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8A3-8C93-48D2-B87C-906D3AB1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C9C-BCD1-41E1-A5B9-066558C6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68F-10F7-4B8F-BD78-F1F28635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74D-3D76-4C86-8511-0FADF0A8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452-D403-40D8-9D5D-A4B7F3FD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6FD-0E3A-4166-8326-BFBD5487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75D-718E-4CF9-A2F0-A25E6DF7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634-C74B-4BFB-8F06-ECA2EB80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F35-A6A8-4FCF-8948-C7A4B63B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AF7-87C3-4B7C-A5C1-BE5D6077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801-3D2F-46BD-B859-87C5B489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D7E-2E22-46F3-8E9C-5350AAC5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F9F73-573C-45F5-A224-9CE5CCF9E8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